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765-995D-4395-B01F-10DBDBBE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C4F-61DF-43B3-94C6-EDCF495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9A8-D520-4786-8DA7-6B18B24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181-F220-4309-9184-0B9E27D1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044-4561-4355-9313-199FB3BF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80A-0549-4236-B248-FEAFFBA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9D82-D84B-401B-A158-5B9BD5AC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EF7-EA2C-45AA-A244-126F3F1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8D58-D42F-481A-A0C7-13724F21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343D-96DD-4873-BB1B-3411A2C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D40F-DFE8-4A32-A148-570172A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B21-D482-4E5A-BC78-2D4B9AF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2A72-D709-4DC0-91E1-093B5A4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DA8-3758-4943-8E6D-40D2529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DA6-6C6D-43F0-926D-860D62B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0B8-5C7A-423C-800A-A13C767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ECD-B956-4419-BECA-69DC1B94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B26-365D-485D-A4BE-4559364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728-E0E9-4BA9-8145-B840E6B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CD2-2743-4076-AD84-C0B2FDB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214-A06A-42BF-B3C1-2C2DE26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1A1-2320-4BC4-BF2F-25F4AE6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859-76B9-490F-8CB2-53BBF0F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A07-347B-411C-839B-C934A34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1CE-68C3-438F-AADB-2DEF511AD4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4A1-3E38-439F-B182-7EBBCF6C4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is one of the most basic engineering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measurements were made in terms of the dimensions of the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80880" y="4495680"/>
            <a:ext cx="6096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bi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distance between the tip of your middle finger to the elbow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to measure cords and texti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other measure was 24 digits or 6 pa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cubit"/>
          <p:cNvPicPr/>
          <p:nvPr/>
        </p:nvPicPr>
        <p:blipFill>
          <a:blip r:embed="rId1"/>
          <a:stretch/>
        </p:blipFill>
        <p:spPr>
          <a:xfrm>
            <a:off x="6553080" y="4495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0880" y="2514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pes are available in lengths up to 1,000 feet; precision of 1/1,000 to 1/5,000 are commonly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urveying tape 1"/>
          <p:cNvPicPr/>
          <p:nvPr/>
        </p:nvPicPr>
        <p:blipFill>
          <a:blip r:embed="rId1"/>
          <a:stretch/>
        </p:blipFill>
        <p:spPr>
          <a:xfrm>
            <a:off x="5105520" y="3657600"/>
            <a:ext cx="209556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surveying tape"/>
          <p:cNvPicPr/>
          <p:nvPr/>
        </p:nvPicPr>
        <p:blipFill>
          <a:blip r:embed="rId2"/>
          <a:stretch/>
        </p:blipFill>
        <p:spPr>
          <a:xfrm>
            <a:off x="1600200" y="3733920"/>
            <a:ext cx="25401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ectronic Distance Measurement (ED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251460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Ms are very useful in measuring distances that are difficult to access or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surveying prism"/>
          <p:cNvPicPr/>
          <p:nvPr/>
        </p:nvPicPr>
        <p:blipFill>
          <a:blip r:embed="rId1"/>
          <a:stretch/>
        </p:blipFill>
        <p:spPr>
          <a:xfrm>
            <a:off x="5791320" y="3429000"/>
            <a:ext cx="1596960" cy="31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otal_station_small"/>
          <p:cNvPicPr/>
          <p:nvPr/>
        </p:nvPicPr>
        <p:blipFill>
          <a:blip r:embed="rId2"/>
          <a:stretch/>
        </p:blipFill>
        <p:spPr>
          <a:xfrm>
            <a:off x="1600200" y="342900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Level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251460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level ground where there is no underbrush, the tape can rest on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ping crew consists of two people: the head tapeperson and the rear tape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ead tapeperson takes one end of the tape walks down the line towards th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distance is more than 100–ft, then the head tapeperson places a taping pin at the 100–ft interval and the process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0880" y="251460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sloping ground where there is no underbrush, the taping must be done in sections, referred to a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reaking the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surveying taping"/>
          <p:cNvPicPr/>
          <p:nvPr/>
        </p:nvPicPr>
        <p:blipFill>
          <a:blip r:embed="rId1"/>
          <a:stretch/>
        </p:blipFill>
        <p:spPr>
          <a:xfrm>
            <a:off x="4191120" y="25909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80880" y="2514600"/>
            <a:ext cx="8255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the tape more than five feet above the ground is difficult, therefore slopes greater than 5 ft per 100 ft will require runs of less than 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457200" y="3497400"/>
          <a:ext cx="8381880" cy="33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97400"/>
                    <a:ext cx="838188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685800" y="3429000"/>
            <a:ext cx="7772400" cy="260352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3352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2"/>
          <p:cNvGrpSpPr/>
          <p:nvPr/>
        </p:nvGrpSpPr>
        <p:grpSpPr>
          <a:xfrm>
            <a:off x="990720" y="3581280"/>
            <a:ext cx="2361960" cy="2974320"/>
            <a:chOff x="990720" y="3581280"/>
            <a:chExt cx="2361960" cy="2974320"/>
          </a:xfrm>
        </p:grpSpPr>
        <p:sp>
          <p:nvSpPr>
            <p:cNvPr id="153" name="Line 13"/>
            <p:cNvSpPr/>
            <p:nvPr/>
          </p:nvSpPr>
          <p:spPr>
            <a:xfrm>
              <a:off x="990720" y="6324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990720" y="3581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3352680" y="4648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15033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5638680" y="6095880"/>
            <a:ext cx="2362320" cy="459720"/>
            <a:chOff x="5638680" y="6095880"/>
            <a:chExt cx="2362320" cy="459720"/>
          </a:xfrm>
        </p:grpSpPr>
        <p:sp>
          <p:nvSpPr>
            <p:cNvPr id="158" name="Line 10"/>
            <p:cNvSpPr/>
            <p:nvPr/>
          </p:nvSpPr>
          <p:spPr>
            <a:xfrm>
              <a:off x="800100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5638680" y="63244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3039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429000" y="5638680"/>
            <a:ext cx="2209680" cy="916920"/>
            <a:chOff x="3429000" y="5638680"/>
            <a:chExt cx="2209680" cy="916920"/>
          </a:xfrm>
        </p:grpSpPr>
        <p:sp>
          <p:nvSpPr>
            <p:cNvPr id="162" name="Line 9"/>
            <p:cNvSpPr/>
            <p:nvPr/>
          </p:nvSpPr>
          <p:spPr>
            <a:xfrm>
              <a:off x="5638680" y="5638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34290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4164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23"/>
          <p:cNvSpPr/>
          <p:nvPr/>
        </p:nvSpPr>
        <p:spPr>
          <a:xfrm>
            <a:off x="1301400" y="2590920"/>
            <a:ext cx="2864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the tap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3504960" y="3124080"/>
            <a:ext cx="4575600" cy="1219320"/>
            <a:chOff x="3504960" y="3124080"/>
            <a:chExt cx="4575600" cy="1219320"/>
          </a:xfrm>
        </p:grpSpPr>
        <p:sp>
          <p:nvSpPr>
            <p:cNvPr id="167" name="Text Box 24"/>
            <p:cNvSpPr/>
            <p:nvPr/>
          </p:nvSpPr>
          <p:spPr>
            <a:xfrm>
              <a:off x="4147920" y="3124080"/>
              <a:ext cx="3932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se a plumb bob to lo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3504960" y="3809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Line 27"/>
          <p:cNvSpPr/>
          <p:nvPr/>
        </p:nvSpPr>
        <p:spPr>
          <a:xfrm>
            <a:off x="3352680" y="4572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8"/>
          <p:cNvSpPr/>
          <p:nvPr/>
        </p:nvSpPr>
        <p:spPr>
          <a:xfrm>
            <a:off x="563868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1"/>
          <p:cNvSpPr/>
          <p:nvPr/>
        </p:nvSpPr>
        <p:spPr>
          <a:xfrm>
            <a:off x="5638680" y="5562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2"/>
          <p:cNvSpPr/>
          <p:nvPr/>
        </p:nvSpPr>
        <p:spPr>
          <a:xfrm>
            <a:off x="8001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5715000" y="3809880"/>
            <a:ext cx="3048120" cy="1219320"/>
            <a:chOff x="5715000" y="3809880"/>
            <a:chExt cx="3048120" cy="1219320"/>
          </a:xfrm>
        </p:grpSpPr>
        <p:sp>
          <p:nvSpPr>
            <p:cNvPr id="174" name="Text Box 34"/>
            <p:cNvSpPr/>
            <p:nvPr/>
          </p:nvSpPr>
          <p:spPr>
            <a:xfrm>
              <a:off x="6172200" y="3809880"/>
              <a:ext cx="25909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ight less 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 flipH="1">
              <a:off x="5715000" y="4495680"/>
              <a:ext cx="473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tance Measu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stance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" y="25909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th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distance between the tips of your middle finger when y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ms are outstre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7200" y="37339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ame comes from the Danish faedn, "outstretched arm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surveying - fathom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590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the tip of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’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toe to the he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4572000"/>
            <a:ext cx="5029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sum of the lengths of the left feet of 16 m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.5 - 24 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foot"/>
          <p:cNvPicPr/>
          <p:nvPr/>
        </p:nvPicPr>
        <p:blipFill>
          <a:blip r:embed="rId1"/>
          <a:stretch/>
        </p:blipFill>
        <p:spPr>
          <a:xfrm>
            <a:off x="6400800" y="2057400"/>
            <a:ext cx="190512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Three_right_feet"/>
          <p:cNvPicPr/>
          <p:nvPr/>
        </p:nvPicPr>
        <p:blipFill>
          <a:blip r:embed="rId2"/>
          <a:stretch/>
        </p:blipFill>
        <p:spPr>
          <a:xfrm>
            <a:off x="304920" y="3962520"/>
            <a:ext cx="3225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t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ance is very use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erson can determine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counting the number of paces necessary to walk a distance that has been previously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952880"/>
            <a:ext cx="5943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defined as one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rid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consider two step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surveying pace"/>
          <p:cNvPicPr/>
          <p:nvPr/>
        </p:nvPicPr>
        <p:blipFill>
          <a:blip r:embed="rId1"/>
          <a:stretch/>
        </p:blipFill>
        <p:spPr>
          <a:xfrm>
            <a:off x="5791320" y="419112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Object 1031"/>
          <p:cNvGraphicFramePr/>
          <p:nvPr/>
        </p:nvGraphicFramePr>
        <p:xfrm>
          <a:off x="1066680" y="2286000"/>
          <a:ext cx="68468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846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ing Whe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11" descr="surveying wheel"/>
          <p:cNvPicPr/>
          <p:nvPr/>
        </p:nvPicPr>
        <p:blipFill>
          <a:blip r:embed="rId1"/>
          <a:stretch/>
        </p:blipFill>
        <p:spPr>
          <a:xfrm>
            <a:off x="1447920" y="2438280"/>
            <a:ext cx="3022560" cy="365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415guy"/>
          <p:cNvPicPr/>
          <p:nvPr/>
        </p:nvPicPr>
        <p:blipFill>
          <a:blip r:embed="rId2"/>
          <a:stretch/>
        </p:blipFill>
        <p:spPr>
          <a:xfrm>
            <a:off x="5638680" y="2057400"/>
            <a:ext cx="16639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80880" y="207648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centuries engineers have measured distances with ropes, lines, or 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80880" y="314316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rm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arry–over from the time when the Gunter chain was used (160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surveying chain"/>
          <p:cNvPicPr/>
          <p:nvPr/>
        </p:nvPicPr>
        <p:blipFill>
          <a:blip r:embed="rId1"/>
          <a:stretch/>
        </p:blipFill>
        <p:spPr>
          <a:xfrm>
            <a:off x="6858000" y="3048120"/>
            <a:ext cx="1998720" cy="3438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0880" y="4438800"/>
            <a:ext cx="647712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66 foot chain is made of 100 links 7.92 inches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785 U.S. a federal law stated that all government surveys must be done with a Gunter's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052"/>
          <p:cNvSpPr/>
          <p:nvPr/>
        </p:nvSpPr>
        <p:spPr>
          <a:xfrm>
            <a:off x="380880" y="2000160"/>
            <a:ext cx="85345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lies at the origin of the defini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riginal acre was an area of land suitable for ploughing with a defined amount of work (e.g., ten furrows long, each furrow being ten chains, permitting rests of an oxen tea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easured one chain by one furlong (totaling 10 square chain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two–lane roads were laid out with a chain, resulting in a 66–ft right–of–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8:09:03Z</cp:lastPrinted>
  <dcterms:modified xsi:type="dcterms:W3CDTF">2009-12-09T20:03:01Z</dcterms:modified>
  <cp:revision>104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