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3F0-93D6-478F-AEEC-A9F9D8B2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4D0-CA3A-4C47-A0C9-B5BC53D1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328-7CB4-4D33-89E3-E14AC5D3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8A4-8294-43BD-A325-F34BB6E5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5F0-FD2C-4507-8169-CA61ED83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7CB-8CAE-45AD-B0DA-9AE78023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31A-55DD-44B6-A8A5-933C7A0E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69C-0FFC-4267-AFE3-82FFC1D4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FBE-7CBB-42AC-A45D-983F224F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8A7-6FD2-4F7A-9BDF-6F6399F3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57F-8BC6-49D2-AAF6-A87E1199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130-F2BE-4103-912D-825667F6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A624-E91B-4DA5-AB5A-0A429FC97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I9l0OxKRSYAszyJzbkF;_ylu=X3oDMTBqZDBmZGhuBHBvcwM4MgRzZWMDc3IEdnRpZAM-/SIG=1i8k8d5qt/EXP=1257120229/**http%3A//images.search.yahoo.com/images/view%3Fback=http%253A%252F%252Fimages.search.yahoo.com%252Fsearch%252Fimages%253Fp%253Dcutting%252Btips%2526b%253D64%2526ni%253D21%2526ei%253DUTF-8%2526pstart%253D1%2526fr%253Dyfp-t-701%26w=143%26h=125%26imgurl=www.gopherindustrial.com%252Fgas_apparatus%252Fimages%252Fcutting_tips.jpg%26rurl=http%253A%252F%252Fwww.gopherindustrial.com%252Fgas_apparatus%26size=3k%26name=cutting%2Btips%2Bjpg%26p=cutting%2Btips%26oid=6e6db8d98872aa80%26fr2=%26no=82%26tt=23516%26b=64%26ni=21%26sigr=11dp28ltf%26sigi=11urjeujq%26sigb=135rmclop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p2Ju1Kw4UAsa2JzbkF;_ylu=X3oDMTBpc2ozM2gzBHBvcwM0BHNlYwNzcgR2dGlkAw--/SIG=1idsuphll/EXP=1257142262/**http%3A//images.search.yahoo.com/images/view%3Fback=http%253A%252F%252Fimages.search.yahoo.com%252Fsearch%252Fimages%253Fp%253Dtorch%252Bcutting%252Btips%2526sado%253D1%2526ei%253Dutf-8%2526fr%253Dyfp-t-701%2526fr2%253Dsg-gac%26w=350%26h=402%26imgurl=www.koike.com%252FImg%252FPost%252Ftorch%252520web.jpg%26rurl=http%253A%252F%252Fwww.koike.com%252FMachines%252FSeriesList.aspx%253FConfigurationID%253D79%26size=15k%26name=torch%2Bweb%2Bjpg%26p=torch%2Bcutting%2Btips%26oid=cdf5e57c22e2b558%26fr2=sg-gac%26no=4%26tt=176%26sigr=120alnukc%26sigi=1163ll44s%26sigb=139o1f67h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rBJ.1Kw4UAIWSJzbkF;_ylu=X3oDMTBpdnJhMHUzBHBvcwMxBHNlYwNzcgR2dGlkAw--/SIG=1fv57nemj/EXP=1257142593/**http%3A//images.search.yahoo.com/images/view%3Fback=http%253A%252F%252Fimages.search.yahoo.com%252Fsearch%252Fimages%253Fp%253DFire%252Btriangle%26w=220%26h=192%26imgurl=www.splendoroftruth.com%252Fcurtjester%252FPics%252FFire_triangle.png%26rurl=http%253A%252F%252Fwww.splendoroftruth.com%252Fcurtjester%252Farchives%252F007356.php%26size=13k%26name=Fire%2Btriangle%2Bpn...%26p=Fire%2Btriangle%26oid=a3a56325c64bd4e8%26fr2=%26no=1%26tt=12962%26sigr=11t7nafmc%26sigi=11pa85sj3%26sigb=11ss7mu4e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rds.yahoo.com/_ylt=A0S020rBJ.1Kw4UAIWSJzbkF;_ylu=X3oDMTBpdnJhMHUzBHBvcwMxBHNlYwNzcgR2dGlkAw--/SIG=1fv57nemj/EXP=1257142593/**http%3A//images.search.yahoo.com/images/view%3Fback=http%253A%252F%252Fimages.search.yahoo.com%252Fsearch%252Fimages%253Fp%253DFire%252Btriangle%26w=220%26h=192%26imgurl=www.splendoroftruth.com%252Fcurtjester%252FPics%252FFire_triangle.png%26rurl=http%253A%252F%252Fwww.splendoroftruth.com%252Fcurtjester%252Farchives%252F007356.php%26size=13k%26name=Fire%2Btriangle%2Bpn...%26p=Fire%2Btriangle%26oid=a3a56325c64bd4e8%26fr2=%26no=1%26tt=12962%26sigr=11t7nafmc%26sigi=11pa85sj3%26sigb=11ss7mu4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ds.yahoo.com/_ylt=A0S020rBJ.1Kw4UAIWSJzbkF;_ylu=X3oDMTBpdnJhMHUzBHBvcwMxBHNlYwNzcgR2dGlkAw--/SIG=1fv57nemj/EXP=1257142593/**http%3A//images.search.yahoo.com/images/view%3Fback=http%253A%252F%252Fimages.search.yahoo.com%252Fsearch%252Fimages%253Fp%253DFire%252Btriangle%26w=220%26h=192%26imgurl=www.splendoroftruth.com%252Fcurtjester%252FPics%252FFire_triangle.png%26rurl=http%253A%252F%252Fwww.splendoroftruth.com%252Fcurtjester%252Farchives%252F007356.php%26size=13k%26name=Fire%2Btriangle%2Bpn...%26p=Fire%2Btriangle%26oid=a3a56325c64bd4e8%26fr2=%26no=1%26tt=12962%26sigr=11t7nafmc%26sigi=11pa85sj3%26sigb=11ss7mu4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_1j.xKd3oAXvqJzbkF;_ylu=X3oDMTBqYWdlNjBlBHBvcwMxOARzZWMDc3IEdnRpZAM-/SIG=1ivueda5b/EXP=1257103733/**http%3A//images.search.yahoo.com/images/view%3Fback=http%253A%252F%252Fimages.search.yahoo.com%252Fsearch%252Fimages%253Fp%253Dcutting%252Bstructural%252Bsteel%252Bbeams%2526ei%253Dutf-8%2526y%253DSearch%2526fr%253Dyfp-t-701%26w=440%26h=330%26imgurl=vtsolar.arch.vt.edu%252Fimages%252Fprogress%252Fchassis%252Ftourch.jpg%26rurl=http%253A%252F%252Fvtsolar.arch.vt.edu%252Fprogress%252F2005%252F02%252F26%252Fcutting_steel%26size=12k%26name=tourch%2Bjpg%26p=cutting%2Bstructural%2Bsteel%2Bbeams%26oid=50e2ce4cba3e8466%26fr2=%26no=18%26tt=38%26sigr=11spdg6qb%26sigi=11msitav4%26sigb=13cul323i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ds.yahoo.com/_ylt=A9G_bHJHkOxKpiQA6kOJzbkF;_ylu=X3oDMTBpZTByOGFiBHBvcwMyBHNlYwNzcgR2dGlkAw--/SIG=1gspgo9sa/EXP=1257103815/**http%3A//images.search.yahoo.com/images/view%3Fback=http%253A%252F%252Fimages.search.yahoo.com%252Fsearch%252Fimages%253Fp%253Dferrous%252Bmetals%2526sado%253D1%2526ei%253Dutf-8%2526fr%253Dyfp-t-701%2526fr2%253Dsg-gac%26w=150%26h=119%26imgurl=www.indiamart.com%252Fspecial-metals%252Fgifs%252Fsteel2.jpg%26rurl=http%253A%252F%252Fwww.indiamart.com%252Fspecial-metals%26size=5k%26name=steel2%2Bjpg%26p=ferrous%2Bmetals%26oid=1af8e4ef71dd1bd4%26fr2=sg-gac%26no=2%26tt=23620%26sigr=1176icaaj%26sigi=11gb8l8i8%26sigb=135aoe8dd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ds.yahoo.com/_ylt=A9G_bDn7kexKtgMABamJzbkF;_ylu=X3oDMTBrNm1xczJtBHBvcwM4MDAEc2VjA3NyBHZ0aWQD/SIG=1iiem0e80/EXP=1257104251/**http%3A//images.search.yahoo.com/images/view%3Fback=http%253A%252F%252Fimages.search.yahoo.com%252Fsearch%252Fimages%253Fp%253DCast%252Biron%2526b%253D799%2526ni%253D21%2526ei%253Dutf-8%2526y%253DSearch%2526pstart%253D1%2526fr%253Dyfp-t-701%26w=456%26h=342%26imgurl=unofficialcook.com%252Fwp-content%252Fuploads%252F2006%252F02%252FCastIron1.JPG%26rurl=http%253A%252F%252Funofficialcook.com%252F%253Fp%253D52%26size=21k%26name=CastIron1%2BJPG%26p=Cast%2Biron%26oid=ec2fc2652db3873c%26fr2=%26no=800%26tt=656006%26b=799%26ni=21%26sigr=10vrvfiqm%26sigi=11rcdudj4%26sigb=13crpu82q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rds.yahoo.com/_ylt=A9G_bF8ik.xKN4QANh2JzbkF;_ylu=X3oDMTBpc2ozM2gzBHBvcwM0BHNlYwNzcgR2dGlkAw--/SIG=1h5n52gbc/EXP=1257104546/**http%3A//images.search.yahoo.com/images/view%3Fback=http%253A%252F%252Fimages.search.yahoo.com%252Fsearch%252Fimages%253Fp%253DStainless%252Bsteel%2526ei%253Dutf-8%2526fr%253Dyfp-t-701%26w=360%26h=360%26imgurl=www.fsgoldensteel.com%252Fimages%252Fpro%252FStainless-Steel-Coils-Sheeet-WL-101-.jpg%26rurl=http%253A%252F%252Fwww.fsgoldensteel.com%252Fpro%252FCoils.html%26size=28k%26name=Stainless%2BSteel%2B...%26p=Stainless%2Bsteel%26oid=ba306eb39c89993c%26fr2=%26no=4%26tt=3555488%26sigr=11blguosc%26sigi=129accsrb%26sigb=12k5bdnlq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: Oxy-Acetylene; Welding, Brazing, Cutting and 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54097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son: Oxy-Fuel Torch Cutting (OF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B7.1 – Understand the role of heat and oxidation in the cutting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B7.3 – Know how to flame-cut metal with an oxy-fuel cutting t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1970.JPG"/>
          <p:cNvPicPr/>
          <p:nvPr/>
        </p:nvPicPr>
        <p:blipFill>
          <a:blip r:embed="rId1"/>
          <a:stretch/>
        </p:blipFill>
        <p:spPr>
          <a:xfrm>
            <a:off x="1981080" y="1523880"/>
            <a:ext cx="49532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etting Started- Inspect the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the cone end, coupling nut, and torch head for dirt, dust, oil, grease, or damaged parts. Dirt and dust can be removed with a clean cl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UTION: If oil, grease or damaged parts are detected, DO NOT USE! Report it to the instructor immediate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866920" y="3047760"/>
            <a:ext cx="838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J:\2009-06-14-1625-34\100_1692.jpg"/>
          <p:cNvPicPr/>
          <p:nvPr/>
        </p:nvPicPr>
        <p:blipFill>
          <a:blip r:embed="rId1"/>
          <a:stretch/>
        </p:blipFill>
        <p:spPr>
          <a:xfrm>
            <a:off x="4724280" y="25146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spect the “O”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pect the cutting attachment cone end for missing or damaged “O” rings.  Damaged or missing “O” rings can allow gases to mix and will cause backfires or backfla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J:\2009-06-14-1625-34\100_1600_edited.jpg"/>
          <p:cNvPicPr/>
          <p:nvPr/>
        </p:nvPicPr>
        <p:blipFill>
          <a:blip r:embed="rId1"/>
          <a:stretch/>
        </p:blipFill>
        <p:spPr>
          <a:xfrm>
            <a:off x="4648320" y="218268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nspect the Cutting T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the torch head.  The tapered seating surfaces must be in good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nts, burns or burned seats are present, the seat must be resurfa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torch is used with a bad seat, backfire or backflash may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J:\2009-06-14-1625-34\100_1561_edited.jpg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tting up the Cutting 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the cutting attachment to the welding torch handle and tighten the coupling nut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hand pressure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ench tightening may damage “O” rings and create a faulty s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:\2009-06-14-1625-34\100_1692.jpg"/>
          <p:cNvPicPr/>
          <p:nvPr/>
        </p:nvPicPr>
        <p:blipFill>
          <a:blip r:embed="rId1"/>
          <a:stretch/>
        </p:blipFill>
        <p:spPr>
          <a:xfrm>
            <a:off x="5181480" y="2133720"/>
            <a:ext cx="3124440" cy="234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410080" y="1752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AND TIGH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6781680" y="2133720"/>
            <a:ext cx="53352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6781680" y="2133720"/>
            <a:ext cx="91440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7619760" y="2895480"/>
            <a:ext cx="75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9" descr="J:\2009-06-14-1625-34\100_1595_edited.jpg"/>
          <p:cNvPicPr/>
          <p:nvPr/>
        </p:nvPicPr>
        <p:blipFill>
          <a:blip r:embed="rId2"/>
          <a:stretch/>
        </p:blipFill>
        <p:spPr>
          <a:xfrm>
            <a:off x="5181480" y="4724280"/>
            <a:ext cx="3124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p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he required size and type of cutting t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752480"/>
            <a:ext cx="2743200" cy="239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Go to fullsize image"/>
          <p:cNvPicPr/>
          <p:nvPr/>
        </p:nvPicPr>
        <p:blipFill>
          <a:blip r:embed="rId3"/>
          <a:stretch/>
        </p:blipFill>
        <p:spPr>
          <a:xfrm>
            <a:off x="1295280" y="4354560"/>
            <a:ext cx="23623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ttaching the Cutting T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the tip in the cutting attachment head and tighten securely with an open-end wren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:\2009-06-14-1625-34\100_1693.jpg"/>
          <p:cNvPicPr/>
          <p:nvPr/>
        </p:nvPicPr>
        <p:blipFill>
          <a:blip r:embed="rId1"/>
          <a:stretch/>
        </p:blipFill>
        <p:spPr>
          <a:xfrm>
            <a:off x="4419720" y="3124080"/>
            <a:ext cx="4267080" cy="3197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3962520" y="5257800"/>
            <a:ext cx="487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029200" y="2209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ench Tight Connecting N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867280" y="25909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6477120" y="2590920"/>
            <a:ext cx="152280" cy="1676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utting Equipment versus Welding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-Fuel gas cutting equipment is used throughout the metal-working world for cutting steel and ferrous (iron-based) me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quipment is basically the same for both oxy-fuel gas cutting and oxy-fuel gas welding, except for the to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tting torch is a unique and invaluable tool that enables the operator to cut almost any thickness of steel to the required size and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J:\2009-06-14-1625-34\100_1608_edited.jpg"/>
          <p:cNvPicPr/>
          <p:nvPr/>
        </p:nvPicPr>
        <p:blipFill>
          <a:blip r:embed="rId1"/>
          <a:stretch/>
        </p:blipFill>
        <p:spPr>
          <a:xfrm>
            <a:off x="6400800" y="1447920"/>
            <a:ext cx="1386000" cy="25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J:\2009-06-14-1625-34\100_1692.jpg"/>
          <p:cNvPicPr/>
          <p:nvPr/>
        </p:nvPicPr>
        <p:blipFill>
          <a:blip r:embed="rId2"/>
          <a:stretch/>
        </p:blipFill>
        <p:spPr>
          <a:xfrm>
            <a:off x="5943600" y="4419720"/>
            <a:ext cx="24382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xy-Fuel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53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-fuel gas cutting is also referred to as flame cu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me cutting is a process of cutting steel by removing material to form a slot, called the ker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al is actually removed from the kerf by burning i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me cutting is one of the fastest and most efficient methods for cutting thick me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752480"/>
            <a:ext cx="1909800" cy="221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The Hirschler's\Desktop\2009-10-24\100_1970.JPG"/>
          <p:cNvPicPr/>
          <p:nvPr/>
        </p:nvPicPr>
        <p:blipFill>
          <a:blip r:embed="rId3"/>
          <a:stretch/>
        </p:blipFill>
        <p:spPr>
          <a:xfrm>
            <a:off x="609480" y="4343400"/>
            <a:ext cx="2438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lements for Burning - F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nderstand how metal can be cut quickly with a flame, you must first understand how burning takes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essential elements are needed for burning: Fuel, Oxygen, and 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can be any material that will chemically combine with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, the steel to be cut is the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447920"/>
            <a:ext cx="2743200" cy="251136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 flipV="1">
            <a:off x="7010280" y="39621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C:\Users\The Hirschler's\Desktop\2009-10-24\100_1995.JPG"/>
          <p:cNvPicPr/>
          <p:nvPr/>
        </p:nvPicPr>
        <p:blipFill>
          <a:blip r:embed="rId3"/>
          <a:stretch/>
        </p:blipFill>
        <p:spPr>
          <a:xfrm>
            <a:off x="6019920" y="4876920"/>
            <a:ext cx="20574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lements for Burning -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, a large quantity of pure oxygen is needed to combine with the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oxygen present, and the greater the oxygen’s force, the faster burning will tak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flame cutting requires a jet stream of pure oxygen directed onto th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:\2009-06-14-1625-34\100_1614.jpg"/>
          <p:cNvPicPr/>
          <p:nvPr/>
        </p:nvPicPr>
        <p:blipFill>
          <a:blip r:embed="rId1"/>
          <a:stretch/>
        </p:blipFill>
        <p:spPr>
          <a:xfrm>
            <a:off x="762120" y="4343400"/>
            <a:ext cx="2666880" cy="199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523880"/>
            <a:ext cx="2743200" cy="2511720"/>
          </a:xfrm>
          <a:prstGeom prst="rect">
            <a:avLst/>
          </a:prstGeom>
          <a:ln w="0">
            <a:noFill/>
          </a:ln>
        </p:spPr>
      </p:pic>
      <p:sp>
        <p:nvSpPr>
          <p:cNvPr id="61" name="Line 6"/>
          <p:cNvSpPr/>
          <p:nvPr/>
        </p:nvSpPr>
        <p:spPr>
          <a:xfrm>
            <a:off x="609480" y="23623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lements for Burning -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, heat is needed to raise the temperature of the steel until it reaches its ignition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ition temperature is the temperature at which the material will burn when oxygen is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gnition or kindling temperature of steel is 1500 degrees Fahrenhe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temperature, steel turns cherry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ream of oxygen is directed onto the hot me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eel burns rapidly, and a slot is cut through the entire pie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xygen and hot steel are actually combining to form a chemical reaction call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xid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:\Users\The Hirschler's\Desktop\2009-10-24\100_1987.JPG"/>
          <p:cNvPicPr/>
          <p:nvPr/>
        </p:nvPicPr>
        <p:blipFill>
          <a:blip r:embed="rId1"/>
          <a:stretch/>
        </p:blipFill>
        <p:spPr>
          <a:xfrm>
            <a:off x="6629400" y="4343400"/>
            <a:ext cx="2209680" cy="165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1828800"/>
            <a:ext cx="2286000" cy="209232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H="1">
            <a:off x="8229240" y="24382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lame Cutting – How it work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xy-Fuel cutting process is accomplished by bringing the base metal to a molten state, then introducing a high-pressure stream of cutting oxy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14840" y="3809520"/>
            <a:ext cx="304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C:\Users\The Hirschler's\Desktop\2009-10-24\100_1984.JPG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e Cutting- How it Works? 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ignite and burn the metal as well as carry away the slag or oxidized resid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-fuel cutting can be applied to plain carbon steels, low-alloy steels and other ferrous me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ferrous metals, stainless steels and cast iron are not usually cut using oxy-fuel equi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5146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2514600"/>
            <a:ext cx="1428480" cy="113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525780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4120" y="52578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4724280" y="1752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rrous Me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 flipH="1">
            <a:off x="6172200" y="213372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6705720" y="2133720"/>
            <a:ext cx="6094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181480" y="4343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n-Ferrous Me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6095880" y="4724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6629400" y="4724280"/>
            <a:ext cx="8380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rtance of Torch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people use the oxy-fuel cutting torch than any other welding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utting torch is used by workers in virtually all areas including manufacturing, maintenance, automotive repair, railroad, farming, and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unfortunately one of the most commonly misused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workers know how to light the torch and make a cut, but their cuts are very poor quality and often unsa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ood oxy-fuel cut should not only be straight and square, but it should require little or no post-cut cleanu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ssive post-cutting cleanup results in extra cost, which is an expense that cannot be just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C:\Users\The Hirschler's\Desktop\2009-10-24\100_1973.JPG"/>
          <p:cNvPicPr/>
          <p:nvPr/>
        </p:nvPicPr>
        <p:blipFill>
          <a:blip r:embed="rId1"/>
          <a:stretch/>
        </p:blipFill>
        <p:spPr>
          <a:xfrm>
            <a:off x="6400800" y="1752480"/>
            <a:ext cx="2438280" cy="182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The Hirschler's\Desktop\2009-10-24\100_2003.JPG"/>
          <p:cNvPicPr/>
          <p:nvPr/>
        </p:nvPicPr>
        <p:blipFill>
          <a:blip r:embed="rId2"/>
          <a:stretch/>
        </p:blipFill>
        <p:spPr>
          <a:xfrm>
            <a:off x="6400800" y="4038480"/>
            <a:ext cx="24382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3:36Z</dcterms:created>
  <dc:creator>The Hirschler's</dc:creator>
  <dc:description/>
  <dc:language>en-US</dc:language>
  <cp:lastModifiedBy>Michael Spiess</cp:lastModifiedBy>
  <dcterms:modified xsi:type="dcterms:W3CDTF">2009-11-06T10:51:43Z</dcterms:modified>
  <cp:revision>1</cp:revision>
  <dc:subject/>
  <dc:title>UNIT: Oxy-Acetylene; Welding, Brazing, Cutting and Heating</dc:title>
</cp:coreProperties>
</file>