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AFD-D051-4110-AF34-D340E5DD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5A0C-F1C7-4E75-9102-FBD797C8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2F1-89CF-43FD-86F7-5E4A1F1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1EB-883D-4DE2-A007-718FA74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AC6-AAE0-461D-B623-FEF44120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FD3-9735-4D43-9023-AC6ABD95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3F9-3C9F-49E9-9B54-145BB6D9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5B5-B4E1-4F06-ACBE-1A780AF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D40-DD84-4602-B7EA-49567010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6CE-C031-42C0-8056-9967E52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BFA-5383-4023-9693-CE895AA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F86-A0BF-4A24-85E9-FD54E99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DD5-4F9A-4CC4-B2AD-F7FEFA92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C04-07D0-4706-A790-70DB9CA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25C9-D9E0-49B1-9D6A-F68FF868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Acetylene Welding (O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GHTING AND SHUTTING DOWN THE 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2 - Know how to properly set up, adjust, shut down, and maintain an oxy-fu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The Hirschler's\Desktop\2009-10-24\100_1914.JPG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a standard friction (spark) lighter, light the acetylene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lways use a friction lighter to light the torch. Never use matches or butane lighters. Your hand could be severely injured when the gas fumes are ign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 the flame until it burns turbulently approximately ¾” from the torch tip. Then adjust the flame so no sooty smoke is rel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00440" y="4876920"/>
            <a:ext cx="685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0.JPG"/>
          <p:cNvPicPr/>
          <p:nvPr/>
        </p:nvPicPr>
        <p:blipFill>
          <a:blip r:embed="rId1"/>
          <a:stretch/>
        </p:blipFill>
        <p:spPr>
          <a:xfrm>
            <a:off x="5029200" y="13716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The Hirschler's\Desktop\2009-10-24\100_1914.JPG"/>
          <p:cNvPicPr/>
          <p:nvPr/>
        </p:nvPicPr>
        <p:blipFill>
          <a:blip r:embed="rId2"/>
          <a:stretch/>
        </p:blipFill>
        <p:spPr>
          <a:xfrm>
            <a:off x="5029200" y="40384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3200" y="3733920"/>
            <a:ext cx="3808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oxygen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oxygen until a small pointed cone appears at the torch t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adjustments in the torch valves and regulator pressures may be necessary to obtain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The Hirschler's\Desktop\2009-10-24\100_1927.JPG"/>
          <p:cNvPicPr/>
          <p:nvPr/>
        </p:nvPicPr>
        <p:blipFill>
          <a:blip r:embed="rId1"/>
          <a:stretch/>
        </p:blipFill>
        <p:spPr>
          <a:xfrm>
            <a:off x="380880" y="20574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the welding torch is not in your hand, it should be shut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eaving the welding area or are finished for the period or day, completely shut down the equipment by following these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Users\The Hirschler's\Desktop\2009-10-24\100_1941.JPG"/>
          <p:cNvPicPr/>
          <p:nvPr/>
        </p:nvPicPr>
        <p:blipFill>
          <a:blip r:embed="rId1"/>
          <a:stretch/>
        </p:blipFill>
        <p:spPr>
          <a:xfrm>
            <a:off x="5943600" y="22860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acetylene torch valve on the torch body to extinguish the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close the oxygen torch valve so gas is not being released from the torch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81320" y="5028840"/>
            <a:ext cx="304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The Hirschler's\Desktop\2009-10-24\100_1888.JPG"/>
          <p:cNvPicPr/>
          <p:nvPr/>
        </p:nvPicPr>
        <p:blipFill>
          <a:blip r:embed="rId2"/>
          <a:stretch/>
        </p:blipFill>
        <p:spPr>
          <a:xfrm>
            <a:off x="5181480" y="388620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The Hirschler's\Desktop\2009-10-24\100_1887.JPG"/>
          <p:cNvPicPr/>
          <p:nvPr/>
        </p:nvPicPr>
        <p:blipFill>
          <a:blip r:embed="rId3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4800600"/>
            <a:ext cx="7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th the acetylene and oxygen cylinder v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1295280" y="13716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The Hirschler's\Desktop\2009-10-24\100_1895.JPG"/>
          <p:cNvPicPr/>
          <p:nvPr/>
        </p:nvPicPr>
        <p:blipFill>
          <a:blip r:embed="rId2"/>
          <a:stretch/>
        </p:blipFill>
        <p:spPr>
          <a:xfrm>
            <a:off x="1295280" y="388620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384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th torch valves on the torch body to release any gas still in the lines (bleed the li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7640" y="5181120"/>
            <a:ext cx="2984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5029200" y="396252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5029200" y="144792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cetylene and oxygen regulators until you see that the high and low pressure gauges on both regulators read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00_1579_edited"/>
          <p:cNvPicPr/>
          <p:nvPr/>
        </p:nvPicPr>
        <p:blipFill>
          <a:blip r:embed="rId1"/>
          <a:stretch/>
        </p:blipFill>
        <p:spPr>
          <a:xfrm>
            <a:off x="1447920" y="1523880"/>
            <a:ext cx="212220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100_1591_edited"/>
          <p:cNvPicPr/>
          <p:nvPr/>
        </p:nvPicPr>
        <p:blipFill>
          <a:blip r:embed="rId2"/>
          <a:stretch/>
        </p:blipFill>
        <p:spPr>
          <a:xfrm>
            <a:off x="1447920" y="4038480"/>
            <a:ext cx="2133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5028840"/>
            <a:ext cx="228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adjusting screws on both regulators counterclockwise until they turn freely with no 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609480" y="129528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609480" y="3962520"/>
            <a:ext cx="33530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es – 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gauges read zero, the adjusting screws are loose, and the torch valves are closed, roll up the hoses, and put the torc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781320" y="449532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4952880" y="1600200"/>
            <a:ext cx="3368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56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ch valves are located on the torch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 valves are located on the top of each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adjusting screws are located on the front of each reg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names and locations of these valves and adjusting mechanisms is necessary before attempting to light a to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:\2009-06-14-1625-34\100_1595_edited.jpg"/>
          <p:cNvPicPr/>
          <p:nvPr/>
        </p:nvPicPr>
        <p:blipFill>
          <a:blip r:embed="rId1"/>
          <a:stretch/>
        </p:blipFill>
        <p:spPr>
          <a:xfrm>
            <a:off x="304920" y="1523880"/>
            <a:ext cx="2895480" cy="15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The Hirschler's\Desktop\2009-10-24\100_1918.JPG"/>
          <p:cNvPicPr/>
          <p:nvPr/>
        </p:nvPicPr>
        <p:blipFill>
          <a:blip r:embed="rId2"/>
          <a:stretch/>
        </p:blipFill>
        <p:spPr>
          <a:xfrm>
            <a:off x="152280" y="318132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The Hirschler's\Desktop\2009-10-24\100_1922.JPG"/>
          <p:cNvPicPr/>
          <p:nvPr/>
        </p:nvPicPr>
        <p:blipFill>
          <a:blip r:embed="rId3"/>
          <a:stretch/>
        </p:blipFill>
        <p:spPr>
          <a:xfrm>
            <a:off x="1905120" y="320040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:\2009-06-14-1625-34\100_1579_edited.jpg"/>
          <p:cNvPicPr/>
          <p:nvPr/>
        </p:nvPicPr>
        <p:blipFill>
          <a:blip r:embed="rId4"/>
          <a:stretch/>
        </p:blipFill>
        <p:spPr>
          <a:xfrm>
            <a:off x="228600" y="4495680"/>
            <a:ext cx="147636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:\2009-06-14-1625-34\100_1591_edited.jpg"/>
          <p:cNvPicPr/>
          <p:nvPr/>
        </p:nvPicPr>
        <p:blipFill>
          <a:blip r:embed="rId5"/>
          <a:stretch/>
        </p:blipFill>
        <p:spPr>
          <a:xfrm>
            <a:off x="1828800" y="449568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-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torch valves are closed by turning them in a counterclockwi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476760" y="2743200"/>
            <a:ext cx="1447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The Hirschler's\Desktop\2009-10-24\100_1888.JPG"/>
          <p:cNvPicPr/>
          <p:nvPr/>
        </p:nvPicPr>
        <p:blipFill>
          <a:blip r:embed="rId1"/>
          <a:stretch/>
        </p:blipFill>
        <p:spPr>
          <a:xfrm>
            <a:off x="4952880" y="160020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4952880" y="40384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502920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regulator adjusting screws are turned counterclockwise and move fre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urn the adjustment screws too far, or they will come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990720" y="38862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arning do not stand directly in front of the regulator when opening the cylinder valve.  The high pressure gas could burst the regulator and cause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acetylene cylinder valve, no more than one full turn, so you can quickly shut off the gas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8160" y="3657600"/>
            <a:ext cx="99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open the oxygen cylinder valve as far as it will go (all the way), so oxygen cannot leak around the valve 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24480" y="3123720"/>
            <a:ext cx="457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228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rrect working pressure on the acetylene regulator gau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by opening the acetylene torch valve and turning the acetylene regulator adjusting screw unit the desired pressure is re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acetylene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914400" y="14479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914400" y="3809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 5 to set the oxygen working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781320" y="251424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5029200" y="137160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The Hirschler's\Desktop\2009-10-24\100_1886.JPG"/>
          <p:cNvPicPr/>
          <p:nvPr/>
        </p:nvPicPr>
        <p:blipFill>
          <a:blip r:embed="rId2"/>
          <a:stretch/>
        </p:blipFill>
        <p:spPr>
          <a:xfrm>
            <a:off x="5029200" y="396252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350532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acetylene torch valve ½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457200" y="211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3:46:04Z</dcterms:created>
  <dc:creator>HP Authorized Customer</dc:creator>
  <dc:description/>
  <dc:language>en-US</dc:language>
  <cp:lastModifiedBy>Michael Spiess</cp:lastModifiedBy>
  <dcterms:modified xsi:type="dcterms:W3CDTF">2009-11-06T10:53:17Z</dcterms:modified>
  <cp:revision>21</cp:revision>
  <dc:subject/>
  <dc:title>Oxy-Fuel Welding, Cutting and Heating</dc:title>
</cp:coreProperties>
</file>