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83E-FA36-4DBD-BB4F-C30BD904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4B4-2E2A-4004-8EF9-26D29F6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0B4-0881-4CF8-B1C2-D797EA52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8F5-9920-41BC-B6CA-F2255544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FE7-5234-43CB-8AF4-D57AB1E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BF5-0BE2-47DC-BDAD-A71FB27F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464-5B26-4F23-953F-AA0DD8C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FA7-0364-4E0A-A15E-FD9E0CF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79B-86C1-45F5-87AA-C332847F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E47-F0F7-401C-A226-99B712D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6C8-2D0A-4FEC-BC27-19851D8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4ED-F1F4-4725-AD3B-C244498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7E0-BDB4-447D-BDC8-4A580A3A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vent the sparks and slag from blowing towards you, tilt the torch tip slightly to one side when the oxygen is de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82.JPG"/>
          <p:cNvPicPr/>
          <p:nvPr/>
        </p:nvPicPr>
        <p:blipFill>
          <a:blip r:embed="rId1"/>
          <a:stretch/>
        </p:blipFill>
        <p:spPr>
          <a:xfrm>
            <a:off x="1066680" y="1981080"/>
            <a:ext cx="2895840" cy="21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The Hirschler's\Desktop\2009-10-24\100_1983.JPG"/>
          <p:cNvPicPr/>
          <p:nvPr/>
        </p:nvPicPr>
        <p:blipFill>
          <a:blip r:embed="rId2"/>
          <a:stretch/>
        </p:blipFill>
        <p:spPr>
          <a:xfrm>
            <a:off x="1066680" y="4267080"/>
            <a:ext cx="28958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metal is pierced, move the torch steadily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metal is not pieced all the way through it probably means that not enough cutting oxygen pressure has been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876920" y="2057400"/>
            <a:ext cx="2819160" cy="211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The Hirschler's\Desktop\2009-10-24\100_1986.JPG"/>
          <p:cNvPicPr/>
          <p:nvPr/>
        </p:nvPicPr>
        <p:blipFill>
          <a:blip r:embed="rId2"/>
          <a:stretch/>
        </p:blipFill>
        <p:spPr>
          <a:xfrm>
            <a:off x="4876920" y="4343400"/>
            <a:ext cx="28191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00440" y="3352320"/>
            <a:ext cx="1219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762120" y="198108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The Hirschler's\Desktop\2009-10-24\100_1989.JPG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855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49528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- If the cut piece does not fall off at the end of a cu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 TRY TO RECUT THE K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tap the cut piece of metal with a Chipping Hammer and the piece will generally det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:\Users\The Hirschler's\Desktop\2009-10-24\100_1991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2590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92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81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5520" y="2819520"/>
            <a:ext cx="167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93.JPG"/>
          <p:cNvPicPr/>
          <p:nvPr/>
        </p:nvPicPr>
        <p:blipFill>
          <a:blip r:embed="rId1"/>
          <a:stretch/>
        </p:blipFill>
        <p:spPr>
          <a:xfrm>
            <a:off x="685800" y="25909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he Hirschler's\Desktop\2009-10-24\100_1994.JPG"/>
          <p:cNvPicPr/>
          <p:nvPr/>
        </p:nvPicPr>
        <p:blipFill>
          <a:blip r:embed="rId2"/>
          <a:stretch/>
        </p:blipFill>
        <p:spPr>
          <a:xfrm>
            <a:off x="4648320" y="259092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66920" y="2971800"/>
            <a:ext cx="1752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The Hirschler's\Desktop\2009-10-24\100_1995.JPG"/>
          <p:cNvPicPr/>
          <p:nvPr/>
        </p:nvPicPr>
        <p:blipFill>
          <a:blip r:embed="rId1"/>
          <a:stretch/>
        </p:blipFill>
        <p:spPr>
          <a:xfrm>
            <a:off x="609480" y="2611440"/>
            <a:ext cx="3810240" cy="285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he Hirschler's\Desktop\2009-10-24\100_2001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72200" y="3505320"/>
            <a:ext cx="137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The Hirschler's\Desktop\2009-10-24\100_2003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he Hirschler's\Desktop\2009-10-24\100_2006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86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10:50Z</dcterms:created>
  <dc:creator>The Hirschler's</dc:creator>
  <dc:description/>
  <dc:language>en-US</dc:language>
  <cp:lastModifiedBy>Michael Spiess</cp:lastModifiedBy>
  <dcterms:modified xsi:type="dcterms:W3CDTF">2009-11-06T10:52:21Z</dcterms:modified>
  <cp:revision>1</cp:revision>
  <dc:subject/>
  <dc:title>Torch Cutting Procedure  Piercing a Hole  Cont.</dc:title>
</cp:coreProperties>
</file>