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E6F-E3FB-42F4-A4BC-4DF92346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063-5592-4610-8FD9-49E5DBAF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B7A-A846-4FE7-8D1A-B362BB61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DC1-9D80-4B70-85D9-A176A7DC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1F7-606A-4EFC-A771-96DB14F0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E31-2082-445A-9141-22777ACB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2EE-6189-42EA-A5B0-74A7563D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967-37E9-41E6-B118-01D0F352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101-463B-41EE-AE2F-A87D2AF8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70A-D64D-4E38-B311-4526E988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B06-6485-41C4-BF0D-BFA859A8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3E8-DFBD-46F2-9DDF-0CD9353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5D47-2FCF-4970-BA9C-40C3CBB15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 the cutting oxygen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- if the preheat flame changes slightly to a carburizing flame, continue to depress the cutting oxygen lever and increase the preheat oxygen at the cutting attachment until the preheat flames are neutral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1964.JPG"/>
          <p:cNvPicPr/>
          <p:nvPr/>
        </p:nvPicPr>
        <p:blipFill>
          <a:blip r:embed="rId1"/>
          <a:stretch/>
        </p:blipFill>
        <p:spPr>
          <a:xfrm>
            <a:off x="457200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ORTANT: Check where molten metal and sparks will fa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ve fire extinguishers available, remove flammable substances, and check where the oxy-fuel hoses are located before starting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tective leather boots and gloves should be worn while torch cu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The Hirschler's\Desktop\2009-10-24\100_1986.JPG"/>
          <p:cNvPicPr/>
          <p:nvPr/>
        </p:nvPicPr>
        <p:blipFill>
          <a:blip r:embed="rId1"/>
          <a:stretch/>
        </p:blipFill>
        <p:spPr>
          <a:xfrm>
            <a:off x="838080" y="2057400"/>
            <a:ext cx="3124440" cy="23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J:\2009-06-14-1625-34\100_1681.jpg"/>
          <p:cNvPicPr/>
          <p:nvPr/>
        </p:nvPicPr>
        <p:blipFill>
          <a:blip r:embed="rId2"/>
          <a:stretch/>
        </p:blipFill>
        <p:spPr>
          <a:xfrm>
            <a:off x="838080" y="51814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The Hirschler's\Desktop\2009-10-24\100_2007.JPG"/>
          <p:cNvPicPr/>
          <p:nvPr/>
        </p:nvPicPr>
        <p:blipFill>
          <a:blip r:embed="rId3"/>
          <a:stretch/>
        </p:blipFill>
        <p:spPr>
          <a:xfrm>
            <a:off x="2438280" y="5181480"/>
            <a:ext cx="152424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:\Users\The Hirschler's\Desktop\2009-10-24\100_1965.JPG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The Hirschler's\Desktop\2009-10-24\100_1966.JPG"/>
          <p:cNvPicPr/>
          <p:nvPr/>
        </p:nvPicPr>
        <p:blipFill>
          <a:blip r:embed="rId2"/>
          <a:stretch/>
        </p:blipFill>
        <p:spPr>
          <a:xfrm>
            <a:off x="4648320" y="2133720"/>
            <a:ext cx="38862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the cutting attachment or torch comfortably in both hands so one hand stabilizes the cutting tip preheat flames approximately 1/8” from the base metal and the other hand is free to depress the cutting oxygen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Users\The Hirschler's\Desktop\2009-10-24\100_1968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he preheat flame on the spot where the cut is to be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cutting action can start, the base metal must be preheated to a bright cherry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red spot appears, depress the cutting oxygen lever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C:\Users\The Hirschler's\Desktop\2009-10-24\100_1969.JPG"/>
          <p:cNvPicPr/>
          <p:nvPr/>
        </p:nvPicPr>
        <p:blipFill>
          <a:blip r:embed="rId1"/>
          <a:stretch/>
        </p:blipFill>
        <p:spPr>
          <a:xfrm>
            <a:off x="1143000" y="4114800"/>
            <a:ext cx="2819520" cy="211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The Hirschler's\Desktop\2009-10-24\100_1974.JPG"/>
          <p:cNvPicPr/>
          <p:nvPr/>
        </p:nvPicPr>
        <p:blipFill>
          <a:blip r:embed="rId2"/>
          <a:stretch/>
        </p:blipFill>
        <p:spPr>
          <a:xfrm>
            <a:off x="1143000" y="1924200"/>
            <a:ext cx="28195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ut has started, move the torch in the direction you wish to c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moving too slowly will allow the cut or kerf to fuse together, and moving too fast will not allow the metal to be preheated and the cut will be l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Users\The Hirschler's\Desktop\2009-10-24\100_1970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o depress the cutting oxygen lever past the final edge of the base metal for a good “drop cu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Users\The Hirschler's\Desktop\2009-10-24\100_1971.JPG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21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The Hirschler's\Desktop\2009-10-24\100_1973.JPG"/>
          <p:cNvPicPr/>
          <p:nvPr/>
        </p:nvPicPr>
        <p:blipFill>
          <a:blip r:embed="rId2"/>
          <a:stretch/>
        </p:blipFill>
        <p:spPr>
          <a:xfrm>
            <a:off x="914400" y="426708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ommended Procedure for Flame Cutting of Thick Steel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C:\Users\The Hirschler's\Pictures\torch book pic.jpg"/>
          <p:cNvPicPr/>
          <p:nvPr/>
        </p:nvPicPr>
        <p:blipFill>
          <a:blip r:embed="rId1"/>
          <a:stretch/>
        </p:blipFill>
        <p:spPr>
          <a:xfrm>
            <a:off x="5486400" y="838080"/>
            <a:ext cx="3548160" cy="586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28600" y="717480"/>
            <a:ext cx="518148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 to preheat; point tip at angle on edge of pl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 flame back to upright position – keep the dark inner blue flame 1/8” from me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 oxy valve slowly; as cut starts, rotate tip backward sligh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rotate to upright position without moving tip forw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 tip more - so tip points slightly in direction of c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 as fast as good cutting action will perm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not jerk; maintain slight leading angle toward cut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down; let cutting stream sever corner edge at bott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e steady forward motion until tip has cleared 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51814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410080" y="685800"/>
            <a:ext cx="0" cy="617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ierce metal, again hold the cutting attachment or torch comfortably in both hands with one hand stabilizing the cutting tip preheat flames approximately 1/8” from the base metal while the other hand is free to depress the cutting oxygen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C:\Users\The Hirschler's\Desktop\2009-10-24\100_1977.JPG"/>
          <p:cNvPicPr/>
          <p:nvPr/>
        </p:nvPicPr>
        <p:blipFill>
          <a:blip r:embed="rId1"/>
          <a:stretch/>
        </p:blipFill>
        <p:spPr>
          <a:xfrm>
            <a:off x="5257800" y="2133720"/>
            <a:ext cx="2743200" cy="205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The Hirschler's\Desktop\2009-10-24\100_1979.JPG"/>
          <p:cNvPicPr/>
          <p:nvPr/>
        </p:nvPicPr>
        <p:blipFill>
          <a:blip r:embed="rId2"/>
          <a:stretch/>
        </p:blipFill>
        <p:spPr>
          <a:xfrm>
            <a:off x="5257800" y="4267080"/>
            <a:ext cx="27432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41:23Z</dcterms:created>
  <dc:creator>The Hirschler's</dc:creator>
  <dc:description/>
  <dc:language>en-US</dc:language>
  <cp:lastModifiedBy>Michael Spiess</cp:lastModifiedBy>
  <dcterms:modified xsi:type="dcterms:W3CDTF">2009-11-06T10:52:10Z</dcterms:modified>
  <cp:revision>1</cp:revision>
  <dc:subject/>
  <dc:title>Lighting the Torch Cont.</dc:title>
</cp:coreProperties>
</file>