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F5BB-3EC3-481D-9840-8E77F1A52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E8CD-AFC1-4363-9EDC-8A889F1C9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A48C-2D73-4765-82A3-9DE65B846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2BC3-EBEA-499E-A0D7-3FCD45F76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F50B-EC17-4501-8D61-082C3BDAA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5664-0670-4E85-9108-8D6271550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CDA3-7046-40BB-BCCD-43A11788D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D3A6-7F8B-4C8A-8ADE-EF755B15B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5037-3569-49A7-B497-B7490B3A1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4715-5D30-421E-AC2D-15DED1CAF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DC43-3280-47EC-A4F6-94FD3BAEF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B50B-668E-4BC2-846B-390B22909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7803-1A6F-47FE-A111-89A8B3391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7E1A-A9A4-4C6E-8684-20096FCC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0C80-D2C0-4E3B-AB63-2E9DE63F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E234-5742-43E4-986E-48F7651A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041B-3179-4FC7-94A9-4AF82D28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F75-6DA4-4877-9C76-5450B502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6E2E-6106-4B21-9B5A-9A185A2B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4CE5-5F96-47A5-9B59-BF226D4D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B7B-98BE-4A2E-848C-94842774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0305-9FAA-4E20-95E4-1F4B1EEB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EE2C-646B-429F-83F8-4B586386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0868-BAA6-4C17-9CE5-914F7689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C543-1DDE-44EE-A227-D05635B5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1279-5834-43A4-9E85-573E21A4E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HECK VA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100_1557_edited"/>
          <p:cNvPicPr/>
          <p:nvPr/>
        </p:nvPicPr>
        <p:blipFill>
          <a:blip r:embed="rId1"/>
          <a:stretch/>
        </p:blipFill>
        <p:spPr>
          <a:xfrm>
            <a:off x="5181480" y="2209680"/>
            <a:ext cx="3276720" cy="3022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609480" y="1447920"/>
            <a:ext cx="419112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re installed to prevent the reverse flow of gases that would result in a combustible mixture in the welding hose, check valves are mounted to the welding torch handle and at the regulator outlet connectio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eck valves are necessary safety devices attached between the hoses and the regulator outlet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xygen Regulator- Working Gauge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ft side- above green hose connection</a:t>
            </a:r>
            <a:br>
              <a:rPr sz="3200"/>
            </a:b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*NEVER EXCEED 40 P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" descr="100_1584_edited"/>
          <p:cNvPicPr/>
          <p:nvPr/>
        </p:nvPicPr>
        <p:blipFill>
          <a:blip r:embed="rId1"/>
          <a:stretch/>
        </p:blipFill>
        <p:spPr>
          <a:xfrm>
            <a:off x="2362320" y="1981080"/>
            <a:ext cx="4365360" cy="4418280"/>
          </a:xfrm>
          <a:prstGeom prst="rect">
            <a:avLst/>
          </a:prstGeom>
          <a:ln w="0">
            <a:noFill/>
          </a:ln>
        </p:spPr>
      </p:pic>
      <p:sp>
        <p:nvSpPr>
          <p:cNvPr id="112" name="Line 4"/>
          <p:cNvSpPr/>
          <p:nvPr/>
        </p:nvSpPr>
        <p:spPr>
          <a:xfrm flipH="1">
            <a:off x="3657240" y="1676520"/>
            <a:ext cx="1066680" cy="25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cetylene Regul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100_1591_edited"/>
          <p:cNvPicPr/>
          <p:nvPr/>
        </p:nvPicPr>
        <p:blipFill>
          <a:blip r:embed="rId1"/>
          <a:stretch/>
        </p:blipFill>
        <p:spPr>
          <a:xfrm>
            <a:off x="2286000" y="1600200"/>
            <a:ext cx="46483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etylene Regulator- Cylinder Pressure Gauge</a:t>
            </a:r>
            <a:br>
              <a:rPr sz="3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 side- closest to cylin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100_1683_edited"/>
          <p:cNvPicPr/>
          <p:nvPr/>
        </p:nvPicPr>
        <p:blipFill>
          <a:blip r:embed="rId1"/>
          <a:stretch/>
        </p:blipFill>
        <p:spPr>
          <a:xfrm>
            <a:off x="2438280" y="1600200"/>
            <a:ext cx="40975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etylene Regulator- Working Gaug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ft side- above red hose connection</a:t>
            </a:r>
            <a:br>
              <a:rPr sz="3200"/>
            </a:b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*NEVER EXCEED 15 P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100_1682_edited"/>
          <p:cNvPicPr/>
          <p:nvPr/>
        </p:nvPicPr>
        <p:blipFill>
          <a:blip r:embed="rId1"/>
          <a:stretch/>
        </p:blipFill>
        <p:spPr>
          <a:xfrm>
            <a:off x="2590920" y="2286000"/>
            <a:ext cx="3878280" cy="4116240"/>
          </a:xfrm>
          <a:prstGeom prst="rect">
            <a:avLst/>
          </a:prstGeom>
          <a:ln w="0">
            <a:noFill/>
          </a:ln>
        </p:spPr>
      </p:pic>
      <p:sp>
        <p:nvSpPr>
          <p:cNvPr id="119" name="Line 4"/>
          <p:cNvSpPr/>
          <p:nvPr/>
        </p:nvSpPr>
        <p:spPr>
          <a:xfrm flipH="1">
            <a:off x="4191120" y="1676520"/>
            <a:ext cx="30456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otective W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19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ade #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Goggles or G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ction Ligh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stri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ather Gloves &amp; Cover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ather B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100_1605_edited"/>
          <p:cNvPicPr/>
          <p:nvPr/>
        </p:nvPicPr>
        <p:blipFill>
          <a:blip r:embed="rId1"/>
          <a:stretch/>
        </p:blipFill>
        <p:spPr>
          <a:xfrm>
            <a:off x="4267080" y="1523880"/>
            <a:ext cx="2819520" cy="123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100_1603_edited"/>
          <p:cNvPicPr/>
          <p:nvPr/>
        </p:nvPicPr>
        <p:blipFill>
          <a:blip r:embed="rId2"/>
          <a:stretch/>
        </p:blipFill>
        <p:spPr>
          <a:xfrm>
            <a:off x="3581280" y="2971800"/>
            <a:ext cx="1981440" cy="1201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100_1632"/>
          <p:cNvPicPr/>
          <p:nvPr/>
        </p:nvPicPr>
        <p:blipFill>
          <a:blip r:embed="rId3"/>
          <a:stretch/>
        </p:blipFill>
        <p:spPr>
          <a:xfrm>
            <a:off x="5791320" y="3962520"/>
            <a:ext cx="1981080" cy="1484280"/>
          </a:xfrm>
          <a:prstGeom prst="rect">
            <a:avLst/>
          </a:prstGeom>
          <a:ln w="0">
            <a:noFill/>
          </a:ln>
        </p:spPr>
      </p:pic>
      <p:sp>
        <p:nvSpPr>
          <p:cNvPr id="125" name="Line 7"/>
          <p:cNvSpPr/>
          <p:nvPr/>
        </p:nvSpPr>
        <p:spPr>
          <a:xfrm>
            <a:off x="2286000" y="220968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2895480" y="34290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895480" y="472428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0" descr="J:\2009-06-14-1625-34\100_1681.jpg"/>
          <p:cNvPicPr/>
          <p:nvPr/>
        </p:nvPicPr>
        <p:blipFill>
          <a:blip r:embed="rId4"/>
          <a:stretch/>
        </p:blipFill>
        <p:spPr>
          <a:xfrm>
            <a:off x="3352680" y="5105520"/>
            <a:ext cx="2057400" cy="1541520"/>
          </a:xfrm>
          <a:prstGeom prst="rect">
            <a:avLst/>
          </a:prstGeom>
          <a:ln w="0">
            <a:noFill/>
          </a:ln>
        </p:spPr>
      </p:pic>
      <p:sp>
        <p:nvSpPr>
          <p:cNvPr id="129" name="Line 11"/>
          <p:cNvSpPr/>
          <p:nvPr/>
        </p:nvSpPr>
        <p:spPr>
          <a:xfrm>
            <a:off x="2743200" y="5867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HAND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orch handle is probably the most frequently used item in a welding sho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tting attachments, welding tips and heating nozzles are all connected to the torch hand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ways inspect the torch handle head, valves and hose connections for oil, grease or damaged par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xygen connection is usually marked “OX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etylene connection is usually marked “FUEL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100_1595_edited"/>
          <p:cNvPicPr/>
          <p:nvPr/>
        </p:nvPicPr>
        <p:blipFill>
          <a:blip r:embed="rId1"/>
          <a:stretch/>
        </p:blipFill>
        <p:spPr>
          <a:xfrm>
            <a:off x="4419720" y="2362320"/>
            <a:ext cx="441936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ORCH HANDLE Ident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562360" y="167652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rch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rch Bod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xygen Control Va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etylene Control Va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100_1595"/>
          <p:cNvPicPr/>
          <p:nvPr/>
        </p:nvPicPr>
        <p:blipFill>
          <a:blip r:embed="rId1"/>
          <a:stretch/>
        </p:blipFill>
        <p:spPr>
          <a:xfrm>
            <a:off x="152280" y="1981080"/>
            <a:ext cx="5029200" cy="3768840"/>
          </a:xfrm>
          <a:prstGeom prst="rect">
            <a:avLst/>
          </a:prstGeom>
          <a:ln w="0">
            <a:noFill/>
          </a:ln>
        </p:spPr>
      </p:pic>
      <p:sp>
        <p:nvSpPr>
          <p:cNvPr id="57" name="Line 5"/>
          <p:cNvSpPr/>
          <p:nvPr/>
        </p:nvSpPr>
        <p:spPr>
          <a:xfrm flipH="1">
            <a:off x="1981080" y="1905120"/>
            <a:ext cx="36576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 flipH="1">
            <a:off x="3123720" y="2666880"/>
            <a:ext cx="251460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7"/>
          <p:cNvSpPr/>
          <p:nvPr/>
        </p:nvSpPr>
        <p:spPr>
          <a:xfrm flipH="1" flipV="1">
            <a:off x="4952520" y="4038120"/>
            <a:ext cx="6858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8"/>
          <p:cNvSpPr/>
          <p:nvPr/>
        </p:nvSpPr>
        <p:spPr>
          <a:xfrm flipH="1" flipV="1">
            <a:off x="4495320" y="4800240"/>
            <a:ext cx="11430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"/>
          <p:cNvSpPr/>
          <p:nvPr/>
        </p:nvSpPr>
        <p:spPr>
          <a:xfrm>
            <a:off x="4267080" y="35053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0"/>
          <p:cNvSpPr/>
          <p:nvPr/>
        </p:nvSpPr>
        <p:spPr>
          <a:xfrm flipH="1">
            <a:off x="4114440" y="3505320"/>
            <a:ext cx="1522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ELDING NOZZ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100_1598_edited"/>
          <p:cNvPicPr/>
          <p:nvPr/>
        </p:nvPicPr>
        <p:blipFill>
          <a:blip r:embed="rId1"/>
          <a:stretch/>
        </p:blipFill>
        <p:spPr>
          <a:xfrm>
            <a:off x="5867280" y="1905120"/>
            <a:ext cx="2590920" cy="2278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100_1600"/>
          <p:cNvPicPr/>
          <p:nvPr/>
        </p:nvPicPr>
        <p:blipFill>
          <a:blip r:embed="rId2"/>
          <a:stretch/>
        </p:blipFill>
        <p:spPr>
          <a:xfrm>
            <a:off x="5943600" y="4572000"/>
            <a:ext cx="2514600" cy="1882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5720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09480" y="1676520"/>
            <a:ext cx="480060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ect the cone end, coupling nut, o-rings and welding nozzle for damage, oil or gr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the welding nozzle to the torch handle. Tighten the coupling nut hand-tight only.  Wrench tightening may damage o-rings and create a faulty seal allowing lea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- There must always be two o-rings on the cone end of the nozzle.  The absence or damage of either of these o-rings allows premixing and leaks of oxygen and acetyle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>
            <a:off x="5410080" y="4648320"/>
            <a:ext cx="1295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8"/>
          <p:cNvSpPr/>
          <p:nvPr/>
        </p:nvSpPr>
        <p:spPr>
          <a:xfrm>
            <a:off x="5410080" y="4648320"/>
            <a:ext cx="1524240" cy="99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EATING NOZZ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100_1568_edited"/>
          <p:cNvPicPr/>
          <p:nvPr/>
        </p:nvPicPr>
        <p:blipFill>
          <a:blip r:embed="rId1"/>
          <a:stretch/>
        </p:blipFill>
        <p:spPr>
          <a:xfrm>
            <a:off x="2286000" y="1600200"/>
            <a:ext cx="457200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UTTING HEAD ATTACH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100_1692_edited"/>
          <p:cNvPicPr/>
          <p:nvPr/>
        </p:nvPicPr>
        <p:blipFill>
          <a:blip r:embed="rId1"/>
          <a:stretch/>
        </p:blipFill>
        <p:spPr>
          <a:xfrm>
            <a:off x="533520" y="3048120"/>
            <a:ext cx="5638680" cy="3101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4" name="Text Box 4"/>
          <p:cNvSpPr/>
          <p:nvPr/>
        </p:nvSpPr>
        <p:spPr>
          <a:xfrm>
            <a:off x="2133720" y="266688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utting Oxygen (To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>
            <a:off x="1143000" y="2971800"/>
            <a:ext cx="106668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>
            <a:off x="1143000" y="2971800"/>
            <a:ext cx="45720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705720" y="3962520"/>
            <a:ext cx="213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igh-Pressure      Cutting Oxygen Le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8"/>
          <p:cNvSpPr/>
          <p:nvPr/>
        </p:nvSpPr>
        <p:spPr>
          <a:xfrm flipH="1" flipV="1">
            <a:off x="5791320" y="3504960"/>
            <a:ext cx="9144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 flipH="1">
            <a:off x="6095880" y="4191120"/>
            <a:ext cx="60984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276720" y="6095880"/>
            <a:ext cx="373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e-Heat Oxygen Control Val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1"/>
          <p:cNvSpPr/>
          <p:nvPr/>
        </p:nvSpPr>
        <p:spPr>
          <a:xfrm flipV="1">
            <a:off x="3657600" y="5486040"/>
            <a:ext cx="1522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2"/>
          <p:cNvSpPr/>
          <p:nvPr/>
        </p:nvSpPr>
        <p:spPr>
          <a:xfrm flipV="1">
            <a:off x="3657600" y="4267080"/>
            <a:ext cx="7632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2895480" y="2590920"/>
            <a:ext cx="19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380880" y="2666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ixing Cha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5"/>
          <p:cNvSpPr/>
          <p:nvPr/>
        </p:nvSpPr>
        <p:spPr>
          <a:xfrm>
            <a:off x="2819520" y="2971800"/>
            <a:ext cx="7596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6"/>
          <p:cNvSpPr/>
          <p:nvPr/>
        </p:nvSpPr>
        <p:spPr>
          <a:xfrm flipH="1">
            <a:off x="2437920" y="2971800"/>
            <a:ext cx="38124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4572000" y="25909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4572000" y="26668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upling N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9"/>
          <p:cNvSpPr/>
          <p:nvPr/>
        </p:nvSpPr>
        <p:spPr>
          <a:xfrm flipH="1">
            <a:off x="4648320" y="2971800"/>
            <a:ext cx="45720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0"/>
          <p:cNvSpPr/>
          <p:nvPr/>
        </p:nvSpPr>
        <p:spPr>
          <a:xfrm>
            <a:off x="5105520" y="29718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609480" y="609588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e-heat Oxygen            (midd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2"/>
          <p:cNvSpPr/>
          <p:nvPr/>
        </p:nvSpPr>
        <p:spPr>
          <a:xfrm flipV="1">
            <a:off x="1447920" y="4952520"/>
            <a:ext cx="121896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6553080" y="32767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I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6629400" y="4800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M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5"/>
          <p:cNvSpPr/>
          <p:nvPr/>
        </p:nvSpPr>
        <p:spPr>
          <a:xfrm flipH="1">
            <a:off x="5866920" y="50292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6"/>
          <p:cNvSpPr/>
          <p:nvPr/>
        </p:nvSpPr>
        <p:spPr>
          <a:xfrm flipH="1">
            <a:off x="6172200" y="3581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1981080" y="6324480"/>
            <a:ext cx="1524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1676520" y="632448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e-heat Acetylene (bott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9"/>
          <p:cNvSpPr/>
          <p:nvPr/>
        </p:nvSpPr>
        <p:spPr>
          <a:xfrm flipV="1">
            <a:off x="2819520" y="5105520"/>
            <a:ext cx="22860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UTTING T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100_1561_edited"/>
          <p:cNvPicPr/>
          <p:nvPr/>
        </p:nvPicPr>
        <p:blipFill>
          <a:blip r:embed="rId1"/>
          <a:stretch/>
        </p:blipFill>
        <p:spPr>
          <a:xfrm>
            <a:off x="4572000" y="1828800"/>
            <a:ext cx="3657600" cy="36194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304920" y="1981080"/>
            <a:ext cx="41148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heat Orif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ixture of Oxygen and Acetylene Ga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6 surrounding hole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xygen Cutting Jet Ori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e Oxygen (Center Ho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3733920" y="4191120"/>
            <a:ext cx="10666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4191120" y="2209680"/>
            <a:ext cx="236196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2590560" y="22096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xygen Regul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100_1579_edited"/>
          <p:cNvPicPr/>
          <p:nvPr/>
        </p:nvPicPr>
        <p:blipFill>
          <a:blip r:embed="rId1"/>
          <a:stretch/>
        </p:blipFill>
        <p:spPr>
          <a:xfrm>
            <a:off x="2743200" y="1752480"/>
            <a:ext cx="366228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xygen Regulator- Cylinder Pressure Gauge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 side – closest to cylinder va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" descr="100_1587_edited"/>
          <p:cNvPicPr/>
          <p:nvPr/>
        </p:nvPicPr>
        <p:blipFill>
          <a:blip r:embed="rId1"/>
          <a:stretch/>
        </p:blipFill>
        <p:spPr>
          <a:xfrm>
            <a:off x="2286000" y="1676520"/>
            <a:ext cx="43308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5:28:50Z</dcterms:created>
  <dc:creator>The Hirschler's</dc:creator>
  <dc:description/>
  <dc:language>en-US</dc:language>
  <cp:lastModifiedBy>Michael Spiess</cp:lastModifiedBy>
  <dcterms:modified xsi:type="dcterms:W3CDTF">2009-11-06T10:53:48Z</dcterms:modified>
  <cp:revision>1</cp:revision>
  <dc:subject/>
  <dc:title>CHECK VALVES</dc:title>
</cp:coreProperties>
</file>