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613F9-CB7F-4787-B1BC-916656429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DCF97-675C-4A06-A7B4-DC71E5C35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C2438-B028-4DA7-8D4C-45C094BFD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D450A-D4ED-4EBE-B47D-7A7A52C11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1985E-B489-4C80-8B5F-07FB7F887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8CA9F-3E8A-4380-9031-337E1BBE2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EB33F-0BB7-41D1-B4C7-6828252F2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3B392-BE7F-49A5-B21B-FC450D35F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2D227-CA7E-43D1-8618-845132299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343DF-3572-46EB-B047-93815FF05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7CDCA-AC66-45B0-89F5-DA1626243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B0B7F-2030-49AA-BC4E-AB9C3F94F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A4B2E-861C-413D-84D5-F165D38215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nit: Oxy-Acetylene; Welding, Brazing, Cutting &amp; Hea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5181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Lesson: Oxy-Acetylene General Safety Ru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4" descr="J:\2009-06-14-1625-34\100_1608_edited.jpg"/>
          <p:cNvPicPr/>
          <p:nvPr/>
        </p:nvPicPr>
        <p:blipFill>
          <a:blip r:embed="rId1"/>
          <a:stretch/>
        </p:blipFill>
        <p:spPr>
          <a:xfrm>
            <a:off x="3581280" y="1447920"/>
            <a:ext cx="1879560" cy="34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GENERAL PRECAUTIONS CON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 startAt="2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rseplay and running are not allowed in the sho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 startAt="2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 not point or gesture with a lit torc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 startAt="2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 not throw objects in the class or sho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 startAt="2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port all injuries to the instruct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 startAt="2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 not use someone else’s lit torch to light your ow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 startAt="2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ar leather welding gloves when welding or cutt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3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8" dur="5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3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8" dur="5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3" dur="5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8" dur="500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THE WORK ARE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The work area must have a fireproof floor.  Concrete is best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Use heat resistant shields to protect walls and unprotected flooring from sparks and hot metal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Maintain adequate ventilation to prevent the accumulation of toxic fumes and gases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Oxygen itself will not burn; however,the presence of pure oxygen will accelerate combustion and cause materials to burn with great intensity!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Oil and grease in the presence of oxygen can ignite and burn violently!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Use tables with fireproof tops. Firebricks work well to protect table and bench surfaces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Chain or otherwise secure cylinders to a wall, bench, or cart.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500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500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PROTECTIVE CLOTH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tect yourself from sparks, flying slag, and flame brilliance at all tim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ar cutting glasses or goggles shaded 5 or dark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ar protective gloves, sleeves, and shoes to protect the skin from sparks and sla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ep protective clothing free of oil and grea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5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5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5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FIRE PREVEN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pect oxy-fuel apparatus for oil, grease, or damaged parts. DO NOT USE the oxy-fuel apparatus if oil or grease is present or if damage is evid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ver use oil or grease on or around any oxy-fuel apparat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a trace of oil or grease can ignite and burn violently in the presence of oxyg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ep flames, heat and sparks away from cylinders and hos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ying sparks can travel up to 35 feet.  Make sure the area is free of combusti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ve a fire extinguisher of the proper type and size on hand in the work area, know where they are located in the sho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" dur="5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" dur="5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" dur="5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FIRE PREVENTION CON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1828440"/>
            <a:ext cx="838224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the oxy-fuel equipment only with the gases for which it is intend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 NOT open the acetylene valve more than 1 full turn.  Be sure the cylinders can be turned off quickly if necessa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en the oxygen valve ALL THE WAY to seal the cylinder back seal pack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ver test for leaks with a flame.  Use soapy wat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fter work is complete, inspect the area for any possible fires or smoldering materia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" dur="5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GENERAL PRECAU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-585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re oxygen will accelerate combustion to the point that it can cause an explos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el gasses (acetylene) can be toxic.  Work in well ventilated areas onl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 not use oxygen as compressed a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 not use oxygen to dust off clothing or the work are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the correct size wrench when tightening or loosening fittings.  They are made of brass and can be damaged easil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5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GENERAL PRECAUTIONS CONT</a:t>
            </a: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566640" indent="-566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not in use, cylinders must have a protective cap install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nd to the side of the equipment when opening the cylinder valves, and open them slowly.  This will limit the risk of injury due to exploding regulato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xygen cylinders contain pressures over 2000 PSI and must be handled carefull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etylene is unstable at pressures above 15 PS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use a friction lighter (striker) to light your torc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" dur="5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" dur="5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GENERAL PRECAUTIONS CON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-591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t metal left out should be marked “HOT” so the others will not be burned by 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 aware of individuals around you and be concerned about their safe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 not cut directly on top of concrete.  The concrete will pop and explod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ol heated / cut metal in the dunk tan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eep the area between you and the cylinders clear and the cylinder valves unobstruc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 not weld or cut on a closed contain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4" dur="5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5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4" dur="500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GENERAL PRECAUTIONS CON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5341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ver leave a lit torch unattend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pliers or tongs to grab hot met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turbing another student while he / she is working is dangero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should caution any other student you see violating a safety ru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fety depends on yo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fore turning the cylinder on, make sure the regulator adjustment screw is turned counterclockwise until loo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rning clothing should be smothered quick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pect the hoses frequently and, when necessary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lac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1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6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1" dur="5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" dur="5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1" dur="5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6" dur="500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6" dur="500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04:08:43Z</dcterms:created>
  <dc:creator>The Hirschler's</dc:creator>
  <dc:description/>
  <dc:language>en-US</dc:language>
  <cp:lastModifiedBy>Michael Spiess</cp:lastModifiedBy>
  <dcterms:modified xsi:type="dcterms:W3CDTF">2009-11-06T10:53:30Z</dcterms:modified>
  <cp:revision>3</cp:revision>
  <dc:subject/>
  <dc:title>Unit: Oxy-Acetylene; Welding, Brazing, Cutting &amp; Heating</dc:title>
</cp:coreProperties>
</file>