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BB29-6DDC-42AB-85FF-C006CF07B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2CC0-D92E-4EE2-8C34-CD81C248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2FE2-9252-4D11-9A7E-A4780F1B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783C-72CA-4692-B28E-5F981761E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2AA1-B885-4B69-AFDB-F93DD1727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414-72EA-412A-8C83-2A823B2F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31D-62FC-41D0-B60C-7D8310D1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6037-DBEC-47FB-8349-85FD4E8AB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ng the Cyli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E0F9-2089-4BE5-8971-06AEEC7DE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B48-E58D-48A7-A0B4-2E902CE6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06A0-C148-4FF1-A5FB-2DA8162B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0BA-8E0D-47D3-94E2-F94A3719C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281-C0A1-40BB-9EE9-02171D21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E62-C623-4748-A74F-0F7D1D5B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B46-3DCD-4AA2-9408-DA6CD727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E4D-04FD-4378-BD3A-B9A68E72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AB6-6522-434F-B888-BA6DF0D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C4C-B844-4238-B507-A59205FD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30F-15A3-4B9E-BAA6-B78E9C5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256-F256-4D62-B5A6-54FAF84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032-B265-4708-AE1D-0499189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14A-3BCE-4EF2-9D2E-E7C7890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413-38F6-4F4E-8024-1B9C96D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DC1-DC94-46F4-9D27-E9221A9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1A8D-0D92-4B8A-9DA0-28EA9291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 Oxy-Fuel Welding, Brazing, Cutting and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876560"/>
            <a:ext cx="69339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ACETYLENE EQUIPMENT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B7.2 – Know how to properly set up, adjust, shut down and maintain an oxy-fue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100_1608_edited"/>
          <p:cNvPicPr/>
          <p:nvPr/>
        </p:nvPicPr>
        <p:blipFill>
          <a:blip r:embed="rId1"/>
          <a:stretch/>
        </p:blipFill>
        <p:spPr>
          <a:xfrm>
            <a:off x="3657600" y="1295280"/>
            <a:ext cx="1724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rning on the Cylinder Val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100_1669_edited"/>
          <p:cNvPicPr/>
          <p:nvPr/>
        </p:nvPicPr>
        <p:blipFill>
          <a:blip r:embed="rId1"/>
          <a:stretch/>
        </p:blipFill>
        <p:spPr>
          <a:xfrm>
            <a:off x="6400800" y="3276720"/>
            <a:ext cx="2189160" cy="3276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04920" y="1295280"/>
            <a:ext cx="5638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stand in front or behind a regulator when opening the cylinder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lways stand to the side of the cylinder leaving the cylinder between you and the regul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ertain that the tension on the regulator adjusting screw is released.  Unscrew adjusting screw counter clockwise until tension is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to the side of the cylinder, slowly open the oxygen cylinder valve until the maximum pressure registers on the high pressure gauge.  Then open the oxygen cylinder valve all-the-way to seal the valve pa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ame manner, slowly open the acetylene cylinder valve.  But only open the Acetylene valve ¾ - 1 full turn.  Allowing the operator to quickly turn off the fuel in case of emergen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C:\Users\The Hirschler's\Desktop\2009-10-24\100_1891.JPG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justing the Oxygen Regulator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Never Exceed 40 PSI – Working G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100_1671"/>
          <p:cNvPicPr/>
          <p:nvPr/>
        </p:nvPicPr>
        <p:blipFill>
          <a:blip r:embed="rId1"/>
          <a:stretch/>
        </p:blipFill>
        <p:spPr>
          <a:xfrm>
            <a:off x="533520" y="1752480"/>
            <a:ext cx="350496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495680" y="3048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king Gau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Cylinder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638680" y="3429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7315200" y="3429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28600" y="4724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 Adjustment Sc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100_1579_edited"/>
          <p:cNvPicPr/>
          <p:nvPr/>
        </p:nvPicPr>
        <p:blipFill>
          <a:blip r:embed="rId2"/>
          <a:stretch/>
        </p:blipFill>
        <p:spPr>
          <a:xfrm>
            <a:off x="5334120" y="3733920"/>
            <a:ext cx="2377800" cy="281916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4419720" y="4952880"/>
            <a:ext cx="2057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04920" y="5257800"/>
            <a:ext cx="4190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- Femal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 Handed Threads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 Markings on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191120" y="5410080"/>
            <a:ext cx="53316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971800" y="5867280"/>
            <a:ext cx="17524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2743200" y="6019920"/>
            <a:ext cx="19810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724280" y="6019920"/>
            <a:ext cx="22860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V="1">
            <a:off x="7010280" y="5715000"/>
            <a:ext cx="3812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Slowly Crack the Acetylene Cylinder Valve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Open cylinder valve ¾ - 1 full turn (quick shut-of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100_1672"/>
          <p:cNvPicPr/>
          <p:nvPr/>
        </p:nvPicPr>
        <p:blipFill>
          <a:blip r:embed="rId1"/>
          <a:stretch/>
        </p:blipFill>
        <p:spPr>
          <a:xfrm>
            <a:off x="1523880" y="1638360"/>
            <a:ext cx="63248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djusting the Acetylene Regulator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Never Exceed 15 PSI – Working G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100_1675"/>
          <p:cNvPicPr/>
          <p:nvPr/>
        </p:nvPicPr>
        <p:blipFill>
          <a:blip r:embed="rId1"/>
          <a:stretch/>
        </p:blipFill>
        <p:spPr>
          <a:xfrm>
            <a:off x="838080" y="1676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100_1591_edited"/>
          <p:cNvPicPr/>
          <p:nvPr/>
        </p:nvPicPr>
        <p:blipFill>
          <a:blip r:embed="rId2"/>
          <a:stretch/>
        </p:blipFill>
        <p:spPr>
          <a:xfrm>
            <a:off x="5257800" y="3276720"/>
            <a:ext cx="3124080" cy="3035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800600" y="2514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king Gau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ylinder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5791320" y="289548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H="1">
            <a:off x="7467480" y="2895480"/>
            <a:ext cx="763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5228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 - Adjustment Sc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724280" y="5410080"/>
            <a:ext cx="16765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280" y="45720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- Mal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52280" y="5715000"/>
            <a:ext cx="5029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- Left Handed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ches on Nut – Indicate Left Handed 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7848720" y="5105520"/>
            <a:ext cx="3045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7391520" y="59436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4952880" y="6019920"/>
            <a:ext cx="2438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038480" y="4800600"/>
            <a:ext cx="38102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6"/>
          <p:cNvSpPr/>
          <p:nvPr/>
        </p:nvSpPr>
        <p:spPr>
          <a:xfrm flipV="1">
            <a:off x="4572000" y="617184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-Fuel Ho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100_1573"/>
          <p:cNvPicPr/>
          <p:nvPr/>
        </p:nvPicPr>
        <p:blipFill>
          <a:blip r:embed="rId1"/>
          <a:stretch/>
        </p:blipFill>
        <p:spPr>
          <a:xfrm>
            <a:off x="6019920" y="914400"/>
            <a:ext cx="289548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28600" y="1143000"/>
            <a:ext cx="563868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Hoses-  Ar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or, have right-handed threads with no markings on the connecting n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ylene Hoses- Ar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D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lor, have left handed threads, with notched markings on the connecting n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oses should have the preservative talcum powder blown out before the welding or cutting torch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es are flame retardant, but should still be kept away from open flame, fallen slag, molten metal and spar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EXCE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15 P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CETYLEN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ULATOR WORKING GU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EXCE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0 P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ULATOR WORKING 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100_1584_edited"/>
          <p:cNvPicPr/>
          <p:nvPr/>
        </p:nvPicPr>
        <p:blipFill>
          <a:blip r:embed="rId2"/>
          <a:stretch/>
        </p:blipFill>
        <p:spPr>
          <a:xfrm>
            <a:off x="6705720" y="4952880"/>
            <a:ext cx="113004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100_1682_edited"/>
          <p:cNvPicPr/>
          <p:nvPr/>
        </p:nvPicPr>
        <p:blipFill>
          <a:blip r:embed="rId3"/>
          <a:stretch/>
        </p:blipFill>
        <p:spPr>
          <a:xfrm>
            <a:off x="6705720" y="3352680"/>
            <a:ext cx="114912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Line 7"/>
          <p:cNvSpPr/>
          <p:nvPr/>
        </p:nvSpPr>
        <p:spPr>
          <a:xfrm flipV="1">
            <a:off x="5334120" y="4266720"/>
            <a:ext cx="12952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5029200" y="5486400"/>
            <a:ext cx="1523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-FUEL UNIT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100_1608_edited"/>
          <p:cNvPicPr/>
          <p:nvPr/>
        </p:nvPicPr>
        <p:blipFill>
          <a:blip r:embed="rId1"/>
          <a:stretch/>
        </p:blipFill>
        <p:spPr>
          <a:xfrm>
            <a:off x="3276720" y="2209680"/>
            <a:ext cx="2422440" cy="4496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546880" y="140796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24480" y="1676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5334120" y="24382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486040" y="3124080"/>
            <a:ext cx="7621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 flipH="1" flipV="1">
            <a:off x="4952520" y="3580920"/>
            <a:ext cx="11430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5028840" y="449532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0"/>
          <p:cNvSpPr/>
          <p:nvPr/>
        </p:nvSpPr>
        <p:spPr>
          <a:xfrm flipH="1" flipV="1">
            <a:off x="4800240" y="510516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2286000" y="2514240"/>
            <a:ext cx="21337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2438280" y="3504960"/>
            <a:ext cx="16002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2666880" y="4419720"/>
            <a:ext cx="76212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1295280" y="5410080"/>
            <a:ext cx="198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 flipV="1">
            <a:off x="2286000" y="5410080"/>
            <a:ext cx="160020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6320" y="2590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522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-Acetylene H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04920" y="4952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-Acetylene      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6172200" y="2209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Cylinder Va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624852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7220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Cylinder Va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72200" y="4648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609588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linder Safety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CURING THE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100_1613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52280" y="1752480"/>
            <a:ext cx="4572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chain or secure cylinders to a cylinder cart, wall or stable work ben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keep cylinders secured properly in a vertical (up-right) 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drop, strike, or apply heat to any part of the cylinder or val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91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ylinder Protective Cap</a:t>
            </a:r>
            <a:br>
              <a:rPr sz="3200"/>
            </a:b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100_1617_edited"/>
          <p:cNvPicPr/>
          <p:nvPr/>
        </p:nvPicPr>
        <p:blipFill>
          <a:blip r:embed="rId1"/>
          <a:stretch/>
        </p:blipFill>
        <p:spPr>
          <a:xfrm>
            <a:off x="6019920" y="1676520"/>
            <a:ext cx="2906640" cy="3733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914400" y="17524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1219320"/>
            <a:ext cx="5333760" cy="53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keep the protective safety caps in place whenever cylinders are moved or are in storage (full or empty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ylinder cap has two holes on its sides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arger Oval Shaped Hol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signed to cause a cylinder with a broken-off valve to spin instead of taking-off like a missi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maller Circular Hol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signed to make a loud whistling noise if the cylinder valve is broken-off, alerting the operator and others in the shop of da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V="1">
            <a:off x="5181480" y="2742840"/>
            <a:ext cx="2514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5562720" y="3123720"/>
            <a:ext cx="220968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MPTY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100_1618_edited"/>
          <p:cNvPicPr/>
          <p:nvPr/>
        </p:nvPicPr>
        <p:blipFill>
          <a:blip r:embed="rId1"/>
          <a:stretch/>
        </p:blipFill>
        <p:spPr>
          <a:xfrm>
            <a:off x="4800600" y="1752480"/>
            <a:ext cx="3606840" cy="4630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28600" y="2133720"/>
            <a:ext cx="43434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empty cylinders “EMPTY” or Place a ring around the protective c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lose cylinder valves completely on empty cylin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809880" y="2743200"/>
            <a:ext cx="175284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RACKING THE CYLINDER VAL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8092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100_1626"/>
          <p:cNvPicPr/>
          <p:nvPr/>
        </p:nvPicPr>
        <p:blipFill>
          <a:blip r:embed="rId1"/>
          <a:stretch/>
        </p:blipFill>
        <p:spPr>
          <a:xfrm>
            <a:off x="5105520" y="1981080"/>
            <a:ext cx="3733560" cy="3303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57200" y="1219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80880" y="914400"/>
            <a:ext cx="4572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 NOT stand directly in front of cylinder valv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tand behind the cylinder valve while cracking and be aware of others in the shop, aiming in a safe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arily open and close the cylinder valve “cracking” - this will blow out any dust, dirt, or debris within the cylinder valve and prevent it from entering the regulator and se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cylinder valve slightly.  If the valve is opened too much the cylinder could tip over from the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cetylene cylinders spray a mist when cracked, let sit for 30 minutes allowing acetone to se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pecting the Cylinder Valve and Reg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e connection seat and threads on the cylinder valve are not dama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maged screw thread may ruin the regulator nut, while a poor connection seat will cause the gas to l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inspect the cylinder valves and regulator threads for traces of grease and oil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If oil or grease is fou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 NOT USE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port to instruct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100_1626_edited"/>
          <p:cNvPicPr/>
          <p:nvPr/>
        </p:nvPicPr>
        <p:blipFill>
          <a:blip r:embed="rId1"/>
          <a:stretch/>
        </p:blipFill>
        <p:spPr>
          <a:xfrm>
            <a:off x="5715000" y="2286000"/>
            <a:ext cx="3124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REGUL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100_1629"/>
          <p:cNvPicPr/>
          <p:nvPr/>
        </p:nvPicPr>
        <p:blipFill>
          <a:blip r:embed="rId1"/>
          <a:stretch/>
        </p:blipFill>
        <p:spPr>
          <a:xfrm>
            <a:off x="4724280" y="228600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838080" y="15238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" y="1295280"/>
            <a:ext cx="42670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he oxygen regulator to the oxygen cylinder and the acetylene regulator to the acetylene cyli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xygen connections have right handed thre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 cylinder valves have  male fittings and the oxygen regulator have female fi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cetylene connections have left handed threa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tylene cylinder valves have female fittings and the Acetylene regulator have male fi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Regulator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n regulators with a close-fitted wrench (open-end wrench). Do not use jawed tools such as pliers, vice grips or channel locks to tighten regulator n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over tighten regulators to cylinders.  Fittings are made of Brass a soft metal and stripping will likely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he regulator has the correct pressure rating for the cylinder being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100_1629"/>
          <p:cNvPicPr/>
          <p:nvPr/>
        </p:nvPicPr>
        <p:blipFill>
          <a:blip r:embed="rId1"/>
          <a:stretch/>
        </p:blipFill>
        <p:spPr>
          <a:xfrm>
            <a:off x="5486400" y="251460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7:47Z</dcterms:created>
  <dc:creator>The Hirschler's</dc:creator>
  <dc:description/>
  <dc:language>en-US</dc:language>
  <cp:lastModifiedBy>Michael Spiess</cp:lastModifiedBy>
  <dcterms:modified xsi:type="dcterms:W3CDTF">2009-11-06T10:53:39Z</dcterms:modified>
  <cp:revision>2</cp:revision>
  <dc:subject/>
  <dc:title>UNIT:  Oxy-Fuel Welding, Brazing, Cutting and Heating</dc:title>
</cp:coreProperties>
</file>