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F5A-1EBF-4E98-8E4A-34EC0557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E1A-85BA-44D5-BF86-64EDA00D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FCE-8BBC-4558-872C-B2A0012B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6C9-52E8-4D27-82A5-974589BA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A0F-74F9-4C41-AAFA-3A1A3E11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4CF-876C-4523-8677-9C3F75A3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999-271A-4695-A44B-7C9E43C2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743-5C1A-478C-9467-2A0B115E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AD8-1FFC-4674-9970-F174528D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745-0CA1-4C6D-9619-99D82691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593-933C-4053-9C27-529CF4CF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0E5-F236-4840-B3E5-60DD2815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1665-FBAE-49E6-8CBC-00108A022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utting Tip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 to a cutting tip selection chart for correct cutting tip, regulator pressures, and travel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Go to fullsize image"/>
          <p:cNvPicPr/>
          <p:nvPr/>
        </p:nvPicPr>
        <p:blipFill>
          <a:blip r:embed="rId1"/>
          <a:stretch/>
        </p:blipFill>
        <p:spPr>
          <a:xfrm>
            <a:off x="1905120" y="2438280"/>
            <a:ext cx="1430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he oxygen valve on the welding torch all th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Users\The Hirschler's\Desktop\2009-10-24\100_1886.JPG"/>
          <p:cNvPicPr/>
          <p:nvPr/>
        </p:nvPicPr>
        <p:blipFill>
          <a:blip r:embed="rId1"/>
          <a:stretch/>
        </p:blipFill>
        <p:spPr>
          <a:xfrm>
            <a:off x="4648320" y="25909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the oxygen regulator to the desired delivery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OT EXCEED 40 P.S.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The Hirschler's\Desktop\2009-10-24\100_1889.JPG"/>
          <p:cNvPicPr/>
          <p:nvPr/>
        </p:nvPicPr>
        <p:blipFill>
          <a:blip r:embed="rId1"/>
          <a:stretch/>
        </p:blipFill>
        <p:spPr>
          <a:xfrm>
            <a:off x="838080" y="2743200"/>
            <a:ext cx="30481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32000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the fuel (Acetylene) regulator delivery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OT EXCEED 15 P.S.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Users\The Hirschler's\Desktop\2009-10-24\100_1894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pen the fuel valve on the torch handle approximately one-half turn and ignite the gas with a friction lighter (striker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NOTE- Wear protective goggles or glasses   (Shade #5) to shield the eyes from the bright light of the flame and leather gloves from potential burns when lighting the torch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:\Users\The Hirschler's\Desktop\2009-10-24\100_1956.JPG"/>
          <p:cNvPicPr/>
          <p:nvPr/>
        </p:nvPicPr>
        <p:blipFill>
          <a:blip r:embed="rId1"/>
          <a:stretch/>
        </p:blipFill>
        <p:spPr>
          <a:xfrm>
            <a:off x="2362320" y="1905120"/>
            <a:ext cx="2111400" cy="28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J:\2009-06-14-1625-34\100_1605_edited.jpg"/>
          <p:cNvPicPr/>
          <p:nvPr/>
        </p:nvPicPr>
        <p:blipFill>
          <a:blip r:embed="rId2"/>
          <a:stretch/>
        </p:blipFill>
        <p:spPr>
          <a:xfrm>
            <a:off x="685800" y="4876920"/>
            <a:ext cx="320040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The Hirschler's\Desktop\2009-10-24\100_1955.JPG"/>
          <p:cNvPicPr/>
          <p:nvPr/>
        </p:nvPicPr>
        <p:blipFill>
          <a:blip r:embed="rId3"/>
          <a:stretch/>
        </p:blipFill>
        <p:spPr>
          <a:xfrm>
            <a:off x="152280" y="1905120"/>
            <a:ext cx="2113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to increase the fuel supply at the torch handle until the flame clears the end of the tip about 1/8”, then reduce the supply slightly to return the flame to the t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C:\Users\The Hirschler's\Desktop\2009-10-24\100_1958.JPG"/>
          <p:cNvPicPr/>
          <p:nvPr/>
        </p:nvPicPr>
        <p:blipFill>
          <a:blip r:embed="rId1"/>
          <a:stretch/>
        </p:blipFill>
        <p:spPr>
          <a:xfrm>
            <a:off x="5011560" y="1981080"/>
            <a:ext cx="308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ly open the preheat oxygen control valve on the cutting attachment until the preheat flames establish a sharp inner cone (neutral fla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:\Users\The Hirschler's\Desktop\2009-10-24\100_1963.JPG"/>
          <p:cNvPicPr/>
          <p:nvPr/>
        </p:nvPicPr>
        <p:blipFill>
          <a:blip r:embed="rId1"/>
          <a:stretch/>
        </p:blipFill>
        <p:spPr>
          <a:xfrm>
            <a:off x="609480" y="2438280"/>
            <a:ext cx="3962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5:00Z</dcterms:created>
  <dc:creator>The Hirschler's</dc:creator>
  <dc:description/>
  <dc:language>en-US</dc:language>
  <cp:lastModifiedBy>Michael Spiess</cp:lastModifiedBy>
  <dcterms:modified xsi:type="dcterms:W3CDTF">2009-11-06T10:51:55Z</dcterms:modified>
  <cp:revision>2</cp:revision>
  <dc:subject/>
  <dc:title>Cutting Tip Chart</dc:title>
</cp:coreProperties>
</file>