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C89-5ACA-4E1E-B651-2BA61AE0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F958-A7F6-498B-AA7F-9173E54E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797-B978-4FE6-9DE9-C08967DD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9898-A3E0-4253-9FCE-4C482DD9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B74C-60A4-43F8-AAC2-91C0456C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3FA-9208-4F55-B232-E5B9C12F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C57-C2FD-4005-89A1-08351F9E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51E-3259-4E3D-9E60-B7757093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CC46-0EDD-4CA9-9BBD-9BA1A3A7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956-AAFC-4B83-83D8-92BA9DEE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3E6-8A7B-4C96-8377-933E770E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270A-5294-4D27-9447-6251DDB1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2796-828E-4DDF-9498-8192ECCF6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cutting operation is finished, or whenever the cutting torch operator must leave the work area, the oxy-acetylene cutting outfit must be shut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Users\The Hirschler's\Desktop\2009-10-24\100_2008.JPG"/>
          <p:cNvPicPr/>
          <p:nvPr/>
        </p:nvPicPr>
        <p:blipFill>
          <a:blip r:embed="rId1"/>
          <a:stretch/>
        </p:blipFill>
        <p:spPr>
          <a:xfrm>
            <a:off x="464832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24382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these procedures for shutting down the equip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off the acetylene torch va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C:\Users\The Hirschler's\Desktop\2009-10-24\100_1885.JPG"/>
          <p:cNvPicPr/>
          <p:nvPr/>
        </p:nvPicPr>
        <p:blipFill>
          <a:blip r:embed="rId1"/>
          <a:stretch/>
        </p:blipFill>
        <p:spPr>
          <a:xfrm>
            <a:off x="68580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335268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off the oxygen torch va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:\Users\The Hirschler's\Desktop\2009-10-24\100_1964.JPG"/>
          <p:cNvPicPr/>
          <p:nvPr/>
        </p:nvPicPr>
        <p:blipFill>
          <a:blip r:embed="rId1"/>
          <a:stretch/>
        </p:blipFill>
        <p:spPr>
          <a:xfrm>
            <a:off x="464832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34290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off the Acetylene cylinder val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:\Users\The Hirschler's\Desktop\2009-10-24\100_1895.JPG"/>
          <p:cNvPicPr/>
          <p:nvPr/>
        </p:nvPicPr>
        <p:blipFill>
          <a:blip r:embed="rId1"/>
          <a:stretch/>
        </p:blipFill>
        <p:spPr>
          <a:xfrm>
            <a:off x="685800" y="2590920"/>
            <a:ext cx="38098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320004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off the Oxygen cylinder val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C:\Users\The Hirschler's\Desktop\2009-10-24\100_1896.JPG"/>
          <p:cNvPicPr/>
          <p:nvPr/>
        </p:nvPicPr>
        <p:blipFill>
          <a:blip r:embed="rId1"/>
          <a:stretch/>
        </p:blipFill>
        <p:spPr>
          <a:xfrm>
            <a:off x="464832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419720" y="251460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open the acetylene torch valve and depress the oxygen cutting lever to release or bleed any gas still remaining in the h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regulators read zero - shut off the acetylene torch va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s 5 &amp;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C:\Users\The Hirschler's\Desktop\2009-10-24\100_1955.JPG"/>
          <p:cNvPicPr/>
          <p:nvPr/>
        </p:nvPicPr>
        <p:blipFill>
          <a:blip r:embed="rId1"/>
          <a:stretch/>
        </p:blipFill>
        <p:spPr>
          <a:xfrm>
            <a:off x="1447920" y="1752480"/>
            <a:ext cx="188424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The Hirschler's\Desktop\2009-10-24\100_2007.JPG"/>
          <p:cNvPicPr/>
          <p:nvPr/>
        </p:nvPicPr>
        <p:blipFill>
          <a:blip r:embed="rId2"/>
          <a:stretch/>
        </p:blipFill>
        <p:spPr>
          <a:xfrm>
            <a:off x="1143000" y="4495680"/>
            <a:ext cx="25909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440" y="2971800"/>
            <a:ext cx="3809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the oxygen and acetylene regulator adjusting screws counterclockwise until no tension remains (loo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C:\Users\The Hirschler's\Desktop\2009-10-24\100_1891.JPG"/>
          <p:cNvPicPr/>
          <p:nvPr/>
        </p:nvPicPr>
        <p:blipFill>
          <a:blip r:embed="rId1"/>
          <a:stretch/>
        </p:blipFill>
        <p:spPr>
          <a:xfrm>
            <a:off x="4952880" y="2209680"/>
            <a:ext cx="2590920" cy="1941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The Hirschler's\Desktop\2009-10-24\100_1892.JPG"/>
          <p:cNvPicPr/>
          <p:nvPr/>
        </p:nvPicPr>
        <p:blipFill>
          <a:blip r:embed="rId2"/>
          <a:stretch/>
        </p:blipFill>
        <p:spPr>
          <a:xfrm>
            <a:off x="4952880" y="4343400"/>
            <a:ext cx="25909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47960" y="3048120"/>
            <a:ext cx="38098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rap the Oxy-acetylene hoses on the outfit for proper clean-up and shop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C:\Users\The Hirschler's\Desktop\2009-10-24\100_1915.JPG"/>
          <p:cNvPicPr/>
          <p:nvPr/>
        </p:nvPicPr>
        <p:blipFill>
          <a:blip r:embed="rId1"/>
          <a:stretch/>
        </p:blipFill>
        <p:spPr>
          <a:xfrm>
            <a:off x="1066680" y="2133720"/>
            <a:ext cx="308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5:26:06Z</dcterms:created>
  <dc:creator>The Hirschler's</dc:creator>
  <dc:description/>
  <dc:language>en-US</dc:language>
  <cp:lastModifiedBy>Michael Spiess</cp:lastModifiedBy>
  <dcterms:modified xsi:type="dcterms:W3CDTF">2009-11-06T10:52:31Z</dcterms:modified>
  <cp:revision>2</cp:revision>
  <dc:subject/>
  <dc:title>Torch Cutting Procedure  Piercing a Hole  Cont.</dc:title>
</cp:coreProperties>
</file>