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885-3C4E-47A3-833B-FFC34E06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408-4AEE-4804-A87E-2DD25C04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CA2-E4B6-4FA4-BB3F-2662A53C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F58-78E4-420A-87A4-AECD4BBF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988B-D917-4B68-87FC-8C83CF2D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DA9C-EB65-46FF-BDEB-688B1262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D884-F923-42F0-8DCC-FEDA222C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A4C0-1209-4F1E-A14E-A75E4BF5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44A1-5D5C-427E-B433-EBD18060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79DC-9611-474A-9539-84ACA031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CD23-C536-45F4-986F-F987563D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1EB7-A097-4B3C-A5CC-3FE6A579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EB9E-671B-4CBF-B011-5CDA0D6E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4D70-7D0A-442B-89A3-4287FC48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D1D0-1ED3-416E-A553-3548D29F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7C87-AC5E-4F71-B8F7-263ACBF1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40EC-84F3-4FBC-86A6-E404B4DC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C54-A651-463C-A6E2-1A336624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197-229B-4033-B73A-015BB350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8EE-503F-4990-96EB-B931ABF1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E7F-9D3E-4209-9411-48DE4BCA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D67-95B6-49E0-B56C-039A05CF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9CF-6412-42C6-A524-5F2FB314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ACD-AFDC-425A-A221-2ECEC135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3EC5-B899-4C48-BE8B-024AE648A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D0B9-9D2D-438B-B483-E0545F96C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ds.yahoo.com/S=96062857/K=biscuit+joints/v=2/SID=w/TID=I999_73/l=II/R=52/SS=i/OID=d4cb4b87c1e3f9fe/SIG=1shpv7ab1/EXP=1121537527/*-http%3A//images.search.yahoo.com/search/images/view?back=http%3A%2F%2Fimages.search.yahoo.com%2Fsearch%2Fimages%3Fp%3Dbiscuit%2Bjoints%26ei%3DUTF-8%26fl%3D0%26imgsz%3Dall%26fr%3Dmy-vert-img-top%26b%3D41&amp;h=50&amp;w=100&amp;imgcurl=www.thewoodworkerschoice.com%2Fimages%2F5161-5163_t.jpg&amp;imgurl=www.thewoodworkerschoice.com%2Fimages%2F5161-5163_t.jpg&amp;size=1.4kB&amp;name=5161-5163_t.jpg&amp;rcurl=http%3A%2F%2Fwww.thewoodworkerschoice.com%2Fsearch_results.asp_txtsearchParamTxt__txtsearchParamCat_7_txtsearchParamType_ALL_iLevel_1_txtsearchParamMan_ALL_txtsearchParamVen_ALL_txtFromSearch_fromSearch_btnSearch.x_7_btnSearch.y_14&amp;rurl=http%3A%2F%2Fwww.thewoodworkerschoice.com%2Fsearch_results.asp_txtsearchParamTxt__txtsearchParamCat_7_txtsearchParamType_ALL_iLevel_1_txtsearchParamMan_ALL_txtsearchParamVen_ALL_txtFromSearch_fromSearch_btnSearch.x_7_btnSearch.y_14&amp;p=biscuit+joints&amp;type=jpeg&amp;no=52&amp;tt=62&amp;ei=UTF-8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Fastening Wood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119-1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90720" y="0"/>
            <a:ext cx="81532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of strengthening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pegs of 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sold in 36” lengths and cut to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purchased in various diameters and l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into complimentary holes in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mortise and t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781680" y="4743360"/>
            <a:ext cx="2114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77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57800" y="3693960"/>
            <a:ext cx="3429000" cy="2703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cuit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in ovals of manufactured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ts are cut with a biscuit tool in the complimentary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e is used to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mps required until 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ly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d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67080" y="1409760"/>
            <a:ext cx="2133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9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st way to secure 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rigid of all fasten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types of 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, Common, finish, roofing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driven with a h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eumatic and electric nail guns make nailing much easier on carp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5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5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a ha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mers have different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7, 13, 16, and 20 ou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eavier the hammer can drive larger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N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l size and type are determined b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ls are sized by pen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d from British, how many pennies it took to buy 100 nails of a given size.  The smaller the penny the smaller the n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er case d represents the penny w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 is about 1”, a 60d is about 6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0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ls may be pulled with a claw ha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is th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scrap block to add leverage and protec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igure 10-4 page 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n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e Na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ls driven at 4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tening 2 boards at 90° one end to a 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d Na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ils driven through the thickness of one board into the end of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il parallel to end piece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y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77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77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7" dur="77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5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5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t N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lat pieces nailed tog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ck to th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 to thin may require clin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ding nail at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plitting occurs clinch across the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nching is very strong way to n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Na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 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carpentry requires nails to be hi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nails achieve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nails are driven below the surface of the wood to be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ed with a nai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ch like tool with a cupped end to stay on nail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ls should be set to at least 1/16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Screw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ws are stronger than 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head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bite into wood for secure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6121440" cy="3319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943600" y="62485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5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5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ntersink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lling pilot, shank hole and counters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als the sc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2705400" cy="2489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6291360" y="2743200"/>
            <a:ext cx="2546280" cy="4114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419112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sink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6324480"/>
            <a:ext cx="14475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6095880"/>
            <a:ext cx="129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Pi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86400"/>
            <a:ext cx="914400" cy="0"/>
          </a:xfrm>
          <a:prstGeom prst="line">
            <a:avLst/>
          </a:prstGeom>
          <a:ln w="57240">
            <a:solidFill>
              <a:srgbClr val="549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525780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90a8"/>
                </a:solidFill>
                <a:latin typeface="Times New Roman"/>
              </a:rPr>
              <a:t>Sh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95120" y="518148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480060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s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334120" y="5257800"/>
            <a:ext cx="2057400" cy="990720"/>
          </a:xfrm>
          <a:prstGeom prst="line">
            <a:avLst/>
          </a:prstGeom>
          <a:ln w="572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952880" y="3200400"/>
            <a:ext cx="221004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029200" y="3962160"/>
            <a:ext cx="2286000" cy="1523880"/>
          </a:xfrm>
          <a:prstGeom prst="line">
            <a:avLst/>
          </a:prstGeom>
          <a:ln w="5724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nion of two pie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, Lap, Dado, Miter, Dov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based on desired strength and app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ways to secure a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ils, Screws, glue, or b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172200" y="4062240"/>
            <a:ext cx="2971800" cy="27957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Bol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ts differ from screws in threa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washers and nu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the strongest way to fasten 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es drilled for bolts equal the diameter of the bo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age bolts often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re shank pr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 from spi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0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Glu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ly St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than n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trong as the wood or str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rcinol, urea, polyvinyl, epoxy, contact cement, casein, and animal g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wood glu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phatic resin, or carpenter’s g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756480" y="0"/>
            <a:ext cx="2387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4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4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3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8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stening with Glu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s to be glued must be properly prep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aint, grease, or w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the joint to ensure wood to wood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e is used solo, or with nails, screws and bo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ed joints must be clamped until glue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glue all immovable wood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5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9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Butt Joints"/>
          <p:cNvPicPr/>
          <p:nvPr/>
        </p:nvPicPr>
        <p:blipFill>
          <a:blip r:embed="rId1"/>
          <a:stretch/>
        </p:blipFill>
        <p:spPr>
          <a:xfrm>
            <a:off x="5867280" y="1905120"/>
            <a:ext cx="227016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ieces joined end to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edge to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ine or at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irly 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ngthened by wood or metal plates across the j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ieces joined face to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ine or at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onger than butt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Lap Joint"/>
          <p:cNvPicPr/>
          <p:nvPr/>
        </p:nvPicPr>
        <p:blipFill>
          <a:blip r:embed="rId1"/>
          <a:stretch/>
        </p:blipFill>
        <p:spPr>
          <a:xfrm>
            <a:off x="6019920" y="3505320"/>
            <a:ext cx="23940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Housed Dado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762120" y="1371600"/>
            <a:ext cx="2496960" cy="30639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6520" y="533160"/>
            <a:ext cx="5837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o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ular groove in one board that receives the end of another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body of board not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held with only glue if fit up is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rabbet butt joint"/>
          <p:cNvPicPr/>
          <p:nvPr/>
        </p:nvPicPr>
        <p:blipFill>
          <a:blip r:embed="rId1"/>
          <a:stretch/>
        </p:blipFill>
        <p:spPr>
          <a:xfrm>
            <a:off x="5410080" y="3809880"/>
            <a:ext cx="3276720" cy="25545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et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unny ear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o at the end of a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in cabinet and box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s easily if cut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61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105520" y="1752480"/>
            <a:ext cx="3460680" cy="3733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er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ends cut to 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ts up to perfect 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on in finish trim and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secured with glu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on Nail-box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Dove 2"/>
          <p:cNvPicPr/>
          <p:nvPr/>
        </p:nvPicPr>
        <p:blipFill>
          <a:blip r:embed="rId1"/>
          <a:stretch/>
        </p:blipFill>
        <p:spPr>
          <a:xfrm>
            <a:off x="5168880" y="1066680"/>
            <a:ext cx="374652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vetail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locking fingers and gro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strongest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fine furn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d by glu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Dovetail"/>
          <p:cNvPicPr/>
          <p:nvPr/>
        </p:nvPicPr>
        <p:blipFill>
          <a:blip r:embed="rId2"/>
          <a:stretch/>
        </p:blipFill>
        <p:spPr>
          <a:xfrm>
            <a:off x="5562720" y="3886200"/>
            <a:ext cx="1382760" cy="2549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22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90720" y="2625840"/>
            <a:ext cx="3771720" cy="40798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Wood Joint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ise and Te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oldest joints in wood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t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glued, pinned, or wed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7:44:02Z</dcterms:created>
  <dc:creator>Valued Gateway Client</dc:creator>
  <dc:description/>
  <dc:language>en-US</dc:language>
  <cp:lastModifiedBy>dpiersma</cp:lastModifiedBy>
  <dcterms:modified xsi:type="dcterms:W3CDTF">2009-11-12T04:40:55Z</dcterms:modified>
  <cp:revision>7</cp:revision>
  <dc:subject/>
  <dc:title>Fastening Wood </dc:title>
</cp:coreProperties>
</file>