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972-D50D-4D33-892C-01CDAB88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287-BD52-4F17-9E99-D7B841EC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E1F-F7D3-421A-8641-1FDC7E8C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277-4944-4379-B5D5-9F93D47E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2769-7923-4D44-9F81-9FA811B0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363B-1819-46CD-A668-38810AA0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D78F-344E-4035-8027-EED18455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2DEA-9E53-45D5-89C9-5D219319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19F2-7741-469E-B083-D7C3EC99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4ED8-CD61-4271-BD98-FFF619F3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19AE-27C9-429D-839F-7AEA2145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9F1-1F01-4BDF-B721-4A7CFF7E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5A04-2A14-449A-82B3-874FD21B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F8BB-D712-4418-9705-4D80CDB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1953-46AE-48F9-A72F-CA0FA71D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40FD-50E1-441B-8607-12CDC07D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A1D8-9027-4942-89D0-27A349CA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05C-D4AD-4DC2-BE31-DF84AFC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BA6-A343-41B7-8D3A-D92F6288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7D2-4C7D-4687-A60B-A2A19A3A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4E0-E496-4E35-89D9-FF9B5D97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B24-129F-4017-A711-2AECD7B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66C-7BB5-4337-912D-D228C00D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495-73F4-440E-B3EE-69BA86DE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6A06-5036-4A8D-B3DC-EE1FC6917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E3D4-B5FD-486B-BBBF-B54C812CE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electing, Cutting, and Shaping Wo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01-1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oft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re strength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ters, studs, joists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ased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graded into number 1, 2, 3 Dimension, depending upon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chieving Quality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S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parallel to the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in appears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method for s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52480"/>
            <a:ext cx="7543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ers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s divided into quar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quarter is sawn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less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400040" cy="1861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72200" y="4486320"/>
            <a:ext cx="1467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" y="1038240"/>
            <a:ext cx="845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537600" cy="4765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685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in-sawed or Plain sawn L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Quartersawn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1722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r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 are harvested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ylem and Phloem conta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Lumber 120-130% moistur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must be dr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Lumber must be 15% or less moi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shrinks and distorts as it d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lumber must be 6-8% mois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drying is 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 year per inch of thic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ir drying wood can be kiln dried to 6-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ln is a large oven that slowly heats the wood removing excess mois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Finis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ber is sold in 4 standard fin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l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 from the saw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 surfaced two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Finis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4S surfaced four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des and edges are planed to exact dimen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s are ex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urfaces are s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andard Lumber Siz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s direct from the sawmill are rough 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 an exa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4 may be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¼ x 4 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oards are finished at the lumber 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inished boards are also not the size they say they are, or nomina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 S4S 2x4 is actually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x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tt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ypes of saw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aws and mechanical s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hands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 s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cutting across the g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boards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8006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cutting along the width of the board or with the g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ing boards narr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5310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tt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1539720"/>
            <a:ext cx="59817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1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Annual Growth Rings"/>
          <p:cNvPicPr/>
          <p:nvPr/>
        </p:nvPicPr>
        <p:blipFill>
          <a:blip r:embed="rId1">
            <a:lum bright="66000"/>
            <a:alphaModFix amt="27000"/>
          </a:blip>
          <a:stretch/>
        </p:blipFill>
        <p:spPr>
          <a:xfrm>
            <a:off x="914400" y="685800"/>
            <a:ext cx="6095880" cy="5767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haracteristics of Wood and Lumber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rd, compact fibrous material that comes from the branches and stems of t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Ring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s caused by hardening of the xylem and phloem of a plant, as new xylem and phloem are developed each year.  Responsible for the appearance of the wood g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s or animals with the same characteristics.  Crucial in the selection of wood, some are better for decoration, some resist rot, some are hard, some are sof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tting Lumb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405080"/>
            <a:ext cx="54864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1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boards removes part of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sawdust com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account for this kerf when we are laying out our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saw blades will leave a 1/8” K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Kerf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317600"/>
            <a:ext cx="6921720" cy="500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Kerf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dos and Rabbe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cuts we make will go through an entir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os and rabbets are cuts or grooves made to receive another board to make a stronger j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67400" y="2247840"/>
            <a:ext cx="3028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dos and Rabbe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33840" y="2438280"/>
            <a:ext cx="308628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ets are used on end joints like drawer cor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3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ow a Tree Grow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3754440" cy="3886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8862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ardwood vs. Softwoo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that is derived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ifer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es. (trees that keep their leaves through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e, Douglas Fir, Red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er that is derived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es.  (loose their leaves in the fall and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k, Maple, Cherry, Waln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ood Gr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, clear Lumber in a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= free of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ts = where branches attach to the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 – First and Seco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’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”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%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umber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side of the board meets 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 and FAS-1 are used for very fine woodwo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verage Hard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1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C = 4’ long, 3” wide, 67%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2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C = 4’ long, 3” wide, 50%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3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C = 4’ long, 3” wide, 33%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oft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rd L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, Common, and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: used where appearance is important, fascia boards, trim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s can be covered by paint or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ivided into Grade A, B, C, &amp; D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oftwood Gra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construction where appearance is not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ivided into Number 1,2,3,4,5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5 Common is the lowest quality lumber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21:30:56Z</dcterms:created>
  <dc:creator>Valued Gateway Client</dc:creator>
  <dc:description/>
  <dc:language>en-US</dc:language>
  <cp:lastModifiedBy>dpiersma</cp:lastModifiedBy>
  <dcterms:modified xsi:type="dcterms:W3CDTF">2009-11-12T20:23:33Z</dcterms:modified>
  <cp:revision>9</cp:revision>
  <dc:subject/>
  <dc:title>Selecting, Cutting, and Shaping Wood</dc:title>
</cp:coreProperties>
</file>