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D60D-0E79-4D11-82FA-AB5AC692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5E66-78BA-49A9-9A81-196638AD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567A-792A-46D6-B7F4-DFBFB3D2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CD3B-9484-4BFF-BB8B-533614E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7CA-8212-478E-A164-64FD54F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B59E-927D-4761-8909-E8FF15A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AABA-4A29-44C5-8227-B92894B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EC00-1CAB-4455-BFFC-40F1B1F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77C5-DDB7-4525-BFA6-A906A56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CDA8-4600-4F04-AD9F-78D726D0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11F-05CC-4586-AA55-266F8F6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7BF3-3D45-498A-AB09-5C7DFD6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FBCE-B4F0-4CD4-BD16-A6F27B2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89F-EA32-4CD0-862E-F740028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BA2-89DA-47E5-B793-137B376B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106F-3333-4D8E-87CE-150B6B73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1E2-2F26-433D-ACDC-F4455234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198C-C2EF-4254-9287-349DD70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A0D6-CA43-4525-8484-1894B63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4854-D84F-4A52-B0D2-34907DA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20D2-2542-456F-A012-8E0215E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B46C-9F52-45D0-A347-D2904B1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2A09-4425-42A9-8B3B-F8797D4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D182-BDD8-45CE-9438-4317956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3FF2-ADE0-4F4B-8815-16FB9FD08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7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41720" indent="-412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B27-894C-4657-9FEE-E386F7B34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PATT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UCTION TECH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p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yout hole location using “Drilling”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required tap size and threads per inch (TP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lt Tap Drill chart for ho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5440" y="1600200"/>
            <a:ext cx="3322440" cy="21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 Drill Cha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37960" y="-63360"/>
          <a:ext cx="8669160" cy="6984720"/>
        </p:xfrm>
        <a:graphic>
          <a:graphicData uri="http://schemas.openxmlformats.org/drawingml/2006/table">
            <a:tbl>
              <a:tblPr/>
              <a:tblGrid>
                <a:gridCol w="1720800"/>
                <a:gridCol w="260280"/>
                <a:gridCol w="1055880"/>
                <a:gridCol w="1214280"/>
                <a:gridCol w="254160"/>
                <a:gridCol w="1693800"/>
                <a:gridCol w="254160"/>
                <a:gridCol w="1029960"/>
                <a:gridCol w="1185840"/>
              </a:tblGrid>
              <a:tr h="3988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 Drill Ch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COARSE THREAD(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Fine Threads (NF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Bo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Screw 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t or Scr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s inside and 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classifications of thr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Fine (UNF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Course (UN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Pipe Thread (NP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825800" cy="517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Diame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meter of the thread measured directly over the threa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Pitch- # of threads per i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648320" cy="454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 hand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St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52680" y="1533600"/>
            <a:ext cx="5334120" cy="186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3922560"/>
            <a:ext cx="5410080" cy="177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ctr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utting Flui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721320" cy="495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as a semi-permanent form of fasting metal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join dissimilar materials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92480" y="152280"/>
            <a:ext cx="4859280" cy="643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when back side of material can not be rea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to connect a blind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724640" cy="3110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 hole to correct size for pop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ip pop rivet into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ing sure it is pushed in all the way up to the fl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25640" cy="409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the pop rivet gun over the pointed end of the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at the rivet squeeze the two handles together until the rivet center pin breaks 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657600" cy="30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ing- bending or forming a flat shape into a 3 dimensional obj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main forms of breaking me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 breaking-using specially designed hand to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hand seamer) to bend sheet me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chine Bre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ss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x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n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ing Mach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025880" cy="294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022720" cy="159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of Flat shape formed to a 3D shap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523880"/>
          <a:ext cx="510552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1055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76920" y="4038480"/>
          <a:ext cx="4038480" cy="26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038480"/>
                    <a:ext cx="40384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stening Metal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v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0668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71800" y="4343400"/>
            <a:ext cx="2286000" cy="197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yout the center of the hole to be dri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 the center with two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nter punch the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1165320"/>
            <a:ext cx="3984480" cy="262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30704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the correct drill size from a drill ind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the drill into the drill chuck and tighten with the chuck k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3920" y="3938760"/>
            <a:ext cx="352584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mp material to the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a drop of cutting fluid on the center punch ma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on drill and begin to drill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sure to put even pressure on the dr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714920" cy="48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4114800"/>
            <a:ext cx="4705200" cy="1355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tting Threa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2 ways to cut threa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rnal Threads (bol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-cutting threads on the outside of a piece of r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nal Threads (nu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p-cutting threads on the inside of a ho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286000" cy="2173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5:22:57Z</dcterms:created>
  <dc:creator>RPatterson</dc:creator>
  <dc:description/>
  <dc:language>en-US</dc:language>
  <cp:lastModifiedBy>RPatterson</cp:lastModifiedBy>
  <dcterms:modified xsi:type="dcterms:W3CDTF">2009-11-11T21:51:55Z</dcterms:modified>
  <cp:revision>14</cp:revision>
  <dc:subject/>
  <dc:title>Cold Metal Processes</dc:title>
</cp:coreProperties>
</file>