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wmf" ContentType="image/x-wmf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7DBA-19FD-45EF-9F30-0148E755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6CE-1A82-4A73-8DC8-A363B8B4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341-5F93-46F5-B71A-7CCF3A9B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336-E2C5-47F9-AF93-2EA14830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AE06-044E-4D9F-AD95-F27038D1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35F5-9DFA-4153-955E-5464ECF6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C9DE-2FC3-486F-8F23-6F86AA9A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44A7-858C-41F3-A981-E869EA5A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6F4C-E840-4B2A-BCEE-2ED01317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27B4-1473-4D31-B9E6-FEDE7FD9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850D-A34E-43E2-9A20-23D09E57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124-8BC4-4459-80F2-70AF5E61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2E37-15D4-42D3-B91D-30DFBAA0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6631-88F8-409D-9C18-1B42FCC0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52B2-ECDE-40DD-99DA-62072B5C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5410-A1DE-4BDD-9D91-25D534B0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87CD-B2F5-446D-A153-E3C93D73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57B-2BBE-4CD5-85CE-623EF36A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738-2DEA-465E-B469-42432811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F0E2-9D56-4A06-9CC2-32EAF203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771-31B1-44A8-BEA3-90958B23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038-1E10-43A8-B4BE-2CFD6352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F41-1274-42C6-B336-486020CE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F3D-55BB-4FFA-AB52-093330E2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9720" indent="-6397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68360" indent="-45396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41292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241720" indent="-41292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241720" indent="-41292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241720" indent="-41292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6D76-FCCA-436E-8EE8-A77C3AD1A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0077-0875-41ED-ABD9-AA3E5E46E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old metal and Layou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r. Patters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nstruction Tech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k Punch - Is used to transfer directly from the drawing to the sheet metal by placing the drawing on top of the metal and then tapping the punch with a hammer to mark the metal through the drawing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er Punch - Is used to enlarge a mark for a drill to follow in order to prevent wandering of the drill bit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4495680" cy="2419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ick Punch           Center Punc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6480" y="250992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pstone - Is a white, soft, natural element cut to either a rectangular or round shape about 4” long and is used to mark rough measurements on ste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124080" y="3086280"/>
            <a:ext cx="3848400" cy="2885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iding “T” Bevel - Is a transfer tool used to copy different angles from a blueprint or project onto the met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viders - Used to transfer a dimension from a rule to the metal.  Also used to scratch circles or arcs in the metal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liding T Bevel       Divider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2610000"/>
            <a:ext cx="3771720" cy="262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lipers - Used to measure the thickness or diameter of an object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ass - Used to mark circles and arcs on metal. The compass uses a pencil attached to one leg to make the ma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B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Measurement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95800" y="2133720"/>
            <a:ext cx="2628720" cy="3581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4343400"/>
            <a:ext cx="769608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step in correct layout is to measure with exact dimensions the item being copied using a rule, metal tape, dividers, and/or comp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1904760"/>
            <a:ext cx="7696080" cy="1942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bility to read and measure correctly both whole and fractional dimensions from the rule to work and back to the rule requires concentration and counting accurately along the ru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7696080" cy="2895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kill at measuring requires practice. You should be able to measure accurately to the nearest 1/16”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3809880" cy="3135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ld met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9720" indent="-6397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ing with metal with out using h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68360" indent="-45396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ding, Drilling, taping, cutting, ro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C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Project Layou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ct Lay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276720" y="1965240"/>
          <a:ext cx="647676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65240"/>
                    <a:ext cx="647676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C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Project Layou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yout or transfer work is the placement of the measurements and lines on the met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yout work is done in full scale and allows for saw cuts or kerfs as needed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yout can be done from a drawing or from an actual project being copied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C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Project Layou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fer the dimensions from drawing to metal using one of the following metho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68360" indent="-453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ach a drawing (full size) to the metal. Use a scratch awl to make an outline of the pro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68360" indent="-453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fer lines from a drawing to metal using a straight edge and scratch awl or soapstone. Be sure all lines are straight and angles are corr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68360" indent="-453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templates or cardboard to transfer curves and ang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dentification and Use of Basic Metalworking Tools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9720" indent="-63972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etalworking Tool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ratch Awl or Scribe - Hardened steel rod with a sharp point that allows you to make marks on steel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n Snips -Hand-held pliers-like tool used for cutting sheet met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cksaw - A hand-held saw with a replaceable blade.  Used for cutting all types of thin metals, round and bar stock, pipes, and tubing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cratch Awl and Tin snip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2509920"/>
            <a:ext cx="3771720" cy="2828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6480" y="250992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Hacksaw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2030400"/>
            <a:ext cx="7696080" cy="3787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A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Metalworking Tool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ill Press - A mounted drill used for precision drilling  of portable object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d Chisel - Is used with a hammer and vise to shear the me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92840" y="1905120"/>
            <a:ext cx="1359000" cy="4038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9720" indent="-63972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ayout Tools - Both measuring and layout tools require skill in use and care in handling and storag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el Rule - Used to make linear measurements, check straight lines, and to project straight lines onto metal.  Usually marked in units to 1/32”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4191120"/>
            <a:ext cx="6934320" cy="1752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tion Square - Consists of a steel rule, level, and 90 and 45 degree angles.  Used to layout markings on metal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4054680" cy="2919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al Tape - Used to layout dimensions longer than a few feet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3644640" cy="3124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3:53:13Z</dcterms:created>
  <dc:creator>RPatterson</dc:creator>
  <dc:description/>
  <dc:language>en-US</dc:language>
  <cp:lastModifiedBy>RPatterson</cp:lastModifiedBy>
  <dcterms:modified xsi:type="dcterms:W3CDTF">2009-11-11T21:51:22Z</dcterms:modified>
  <cp:revision>8</cp:revision>
  <dc:subject/>
  <dc:title>Cold metal and Layout</dc:title>
</cp:coreProperties>
</file>